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383-7148-4EC5-9F70-36C17762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D32-6A5A-4A74-9A23-90C76A19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5A0-EB52-47CA-A543-9190263D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73F-4822-48D7-A141-1F377434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66F-28F3-44A9-8DDB-3016728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10A-8F64-4468-9925-2AB98C5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FF1-5279-456F-A4F1-6684C1CD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107-377F-4859-A7B5-F3A7A4E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A72-2A9C-48D2-9531-3E718DB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08D-57D7-487D-A0FA-E029ACA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631-15F7-4B15-B1C3-6E908D6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7AC-9C78-44B8-A598-1E854EF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97A-D614-4DD5-BEEE-668DFA061E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049400"/>
            <a:ext cx="2160360" cy="2197080"/>
            <a:chOff x="0" y="1049400"/>
            <a:chExt cx="2160360" cy="2197080"/>
          </a:xfrm>
        </p:grpSpPr>
        <p:grpSp>
          <p:nvGrpSpPr>
            <p:cNvPr id="42" name=""/>
            <p:cNvGrpSpPr/>
            <p:nvPr/>
          </p:nvGrpSpPr>
          <p:grpSpPr>
            <a:xfrm>
              <a:off x="0" y="1476360"/>
              <a:ext cx="2160360" cy="1770120"/>
              <a:chOff x="0" y="1476360"/>
              <a:chExt cx="2160360" cy="1770120"/>
            </a:xfrm>
          </p:grpSpPr>
          <p:sp>
            <p:nvSpPr>
              <p:cNvPr id="43" name=""/>
              <p:cNvSpPr/>
              <p:nvPr/>
            </p:nvSpPr>
            <p:spPr>
              <a:xfrm>
                <a:off x="37872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9060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872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417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415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04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04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396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2536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0820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195640" y="1049400"/>
            <a:ext cx="2160360" cy="2197080"/>
            <a:chOff x="2195640" y="1049400"/>
            <a:chExt cx="2160360" cy="2197080"/>
          </a:xfrm>
        </p:grpSpPr>
        <p:grpSp>
          <p:nvGrpSpPr>
            <p:cNvPr id="55" name=""/>
            <p:cNvGrpSpPr/>
            <p:nvPr/>
          </p:nvGrpSpPr>
          <p:grpSpPr>
            <a:xfrm>
              <a:off x="2195640" y="1476360"/>
              <a:ext cx="2160360" cy="1770120"/>
              <a:chOff x="2195640" y="1476360"/>
              <a:chExt cx="2160360" cy="1770120"/>
            </a:xfrm>
          </p:grpSpPr>
          <p:sp>
            <p:nvSpPr>
              <p:cNvPr id="56" name=""/>
              <p:cNvSpPr/>
              <p:nvPr/>
            </p:nvSpPr>
            <p:spPr>
              <a:xfrm>
                <a:off x="257436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8624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57436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1370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71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0968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0968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9564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7349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2064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0348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37080" y="1049400"/>
            <a:ext cx="2160360" cy="2197080"/>
            <a:chOff x="4537080" y="1049400"/>
            <a:chExt cx="2160360" cy="2197080"/>
          </a:xfrm>
        </p:grpSpPr>
        <p:grpSp>
          <p:nvGrpSpPr>
            <p:cNvPr id="68" name=""/>
            <p:cNvGrpSpPr/>
            <p:nvPr/>
          </p:nvGrpSpPr>
          <p:grpSpPr>
            <a:xfrm>
              <a:off x="4537080" y="1476360"/>
              <a:ext cx="2160360" cy="1770120"/>
              <a:chOff x="4537080" y="1476360"/>
              <a:chExt cx="2160360" cy="1770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1580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2768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1580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788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7860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5112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112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3708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7672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24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528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732720" y="1049400"/>
            <a:ext cx="2160360" cy="2197080"/>
            <a:chOff x="6732720" y="1049400"/>
            <a:chExt cx="2160360" cy="2197080"/>
          </a:xfrm>
        </p:grpSpPr>
        <p:grpSp>
          <p:nvGrpSpPr>
            <p:cNvPr id="81" name=""/>
            <p:cNvGrpSpPr/>
            <p:nvPr/>
          </p:nvGrpSpPr>
          <p:grpSpPr>
            <a:xfrm>
              <a:off x="6732720" y="1476360"/>
              <a:ext cx="2160360" cy="1770120"/>
              <a:chOff x="6732720" y="1476360"/>
              <a:chExt cx="2160360" cy="1770120"/>
            </a:xfrm>
          </p:grpSpPr>
          <p:sp>
            <p:nvSpPr>
              <p:cNvPr id="82" name=""/>
              <p:cNvSpPr/>
              <p:nvPr/>
            </p:nvSpPr>
            <p:spPr>
              <a:xfrm>
                <a:off x="711144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2332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11144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741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2742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4676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4676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272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27200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77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4056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3570120"/>
            <a:ext cx="2160360" cy="2197080"/>
            <a:chOff x="0" y="3570120"/>
            <a:chExt cx="2160360" cy="2197080"/>
          </a:xfrm>
        </p:grpSpPr>
        <p:grpSp>
          <p:nvGrpSpPr>
            <p:cNvPr id="94" name=""/>
            <p:cNvGrpSpPr/>
            <p:nvPr/>
          </p:nvGrpSpPr>
          <p:grpSpPr>
            <a:xfrm>
              <a:off x="0" y="3997080"/>
              <a:ext cx="2160360" cy="1770120"/>
              <a:chOff x="0" y="3997080"/>
              <a:chExt cx="2160360" cy="1770120"/>
            </a:xfrm>
          </p:grpSpPr>
          <p:sp>
            <p:nvSpPr>
              <p:cNvPr id="95" name=""/>
              <p:cNvSpPr/>
              <p:nvPr/>
            </p:nvSpPr>
            <p:spPr>
              <a:xfrm>
                <a:off x="37872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060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872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417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4152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04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04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396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2536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0820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95640" y="3570120"/>
            <a:ext cx="2160360" cy="2197080"/>
            <a:chOff x="2195640" y="3570120"/>
            <a:chExt cx="2160360" cy="2197080"/>
          </a:xfrm>
        </p:grpSpPr>
        <p:grpSp>
          <p:nvGrpSpPr>
            <p:cNvPr id="107" name=""/>
            <p:cNvGrpSpPr/>
            <p:nvPr/>
          </p:nvGrpSpPr>
          <p:grpSpPr>
            <a:xfrm>
              <a:off x="2195640" y="3997080"/>
              <a:ext cx="2160360" cy="1770120"/>
              <a:chOff x="2195640" y="3997080"/>
              <a:chExt cx="2160360" cy="1770120"/>
            </a:xfrm>
          </p:grpSpPr>
          <p:sp>
            <p:nvSpPr>
              <p:cNvPr id="108" name=""/>
              <p:cNvSpPr/>
              <p:nvPr/>
            </p:nvSpPr>
            <p:spPr>
              <a:xfrm>
                <a:off x="257436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8624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7436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70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371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968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0968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9564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7349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2064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348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37080" y="3570120"/>
            <a:ext cx="2160360" cy="2197080"/>
            <a:chOff x="4537080" y="3570120"/>
            <a:chExt cx="2160360" cy="2197080"/>
          </a:xfrm>
        </p:grpSpPr>
        <p:grpSp>
          <p:nvGrpSpPr>
            <p:cNvPr id="120" name=""/>
            <p:cNvGrpSpPr/>
            <p:nvPr/>
          </p:nvGrpSpPr>
          <p:grpSpPr>
            <a:xfrm>
              <a:off x="4537080" y="3997080"/>
              <a:ext cx="2160360" cy="1770120"/>
              <a:chOff x="4537080" y="3997080"/>
              <a:chExt cx="2160360" cy="1770120"/>
            </a:xfrm>
          </p:grpSpPr>
          <p:sp>
            <p:nvSpPr>
              <p:cNvPr id="121" name=""/>
              <p:cNvSpPr/>
              <p:nvPr/>
            </p:nvSpPr>
            <p:spPr>
              <a:xfrm>
                <a:off x="491580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2768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1580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788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7860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5112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5112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3708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7672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624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528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32720" y="3570120"/>
            <a:ext cx="2160360" cy="2197080"/>
            <a:chOff x="6732720" y="3570120"/>
            <a:chExt cx="2160360" cy="2197080"/>
          </a:xfrm>
        </p:grpSpPr>
        <p:grpSp>
          <p:nvGrpSpPr>
            <p:cNvPr id="133" name=""/>
            <p:cNvGrpSpPr/>
            <p:nvPr/>
          </p:nvGrpSpPr>
          <p:grpSpPr>
            <a:xfrm>
              <a:off x="6732720" y="3997080"/>
              <a:ext cx="2160360" cy="1770120"/>
              <a:chOff x="6732720" y="3997080"/>
              <a:chExt cx="2160360" cy="1770120"/>
            </a:xfrm>
          </p:grpSpPr>
          <p:sp>
            <p:nvSpPr>
              <p:cNvPr id="134" name=""/>
              <p:cNvSpPr/>
              <p:nvPr/>
            </p:nvSpPr>
            <p:spPr>
              <a:xfrm>
                <a:off x="711144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2332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1144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7412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742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4676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4676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3272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27200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577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4056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04720" y="1260360"/>
            <a:ext cx="1384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Segoe Script"/>
              </a:rPr>
              <a:t>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32680" y="1157400"/>
            <a:ext cx="15782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000000"/>
                </a:solidFill>
                <a:latin typeface="Andalus"/>
              </a:rPr>
              <a:t>T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23000" y="952560"/>
            <a:ext cx="175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92640" y="979560"/>
            <a:ext cx="163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920" y="3570120"/>
            <a:ext cx="1721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8480" y="3579840"/>
            <a:ext cx="1648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440" y="3479760"/>
            <a:ext cx="1402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68960" y="3363840"/>
            <a:ext cx="17899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2320" y="605628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** The actual fonts used may be of a different fo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049400"/>
            <a:ext cx="2160360" cy="2197080"/>
            <a:chOff x="0" y="1049400"/>
            <a:chExt cx="2160360" cy="2197080"/>
          </a:xfrm>
        </p:grpSpPr>
        <p:grpSp>
          <p:nvGrpSpPr>
            <p:cNvPr id="156" name=""/>
            <p:cNvGrpSpPr/>
            <p:nvPr/>
          </p:nvGrpSpPr>
          <p:grpSpPr>
            <a:xfrm>
              <a:off x="0" y="1476360"/>
              <a:ext cx="2160360" cy="1770120"/>
              <a:chOff x="0" y="1476360"/>
              <a:chExt cx="2160360" cy="1770120"/>
            </a:xfrm>
          </p:grpSpPr>
          <p:sp>
            <p:nvSpPr>
              <p:cNvPr id="157" name=""/>
              <p:cNvSpPr/>
              <p:nvPr/>
            </p:nvSpPr>
            <p:spPr>
              <a:xfrm>
                <a:off x="37872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060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872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417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415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04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4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396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820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95640" y="1049400"/>
            <a:ext cx="2160360" cy="2197080"/>
            <a:chOff x="2195640" y="1049400"/>
            <a:chExt cx="2160360" cy="2197080"/>
          </a:xfrm>
        </p:grpSpPr>
        <p:grpSp>
          <p:nvGrpSpPr>
            <p:cNvPr id="169" name=""/>
            <p:cNvGrpSpPr/>
            <p:nvPr/>
          </p:nvGrpSpPr>
          <p:grpSpPr>
            <a:xfrm>
              <a:off x="2195640" y="1476360"/>
              <a:ext cx="2160360" cy="1770120"/>
              <a:chOff x="2195640" y="1476360"/>
              <a:chExt cx="2160360" cy="1770120"/>
            </a:xfrm>
          </p:grpSpPr>
          <p:sp>
            <p:nvSpPr>
              <p:cNvPr id="170" name=""/>
              <p:cNvSpPr/>
              <p:nvPr/>
            </p:nvSpPr>
            <p:spPr>
              <a:xfrm>
                <a:off x="257436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8624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7436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370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371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0968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0968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9564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7349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064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348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37080" y="1049400"/>
            <a:ext cx="2160360" cy="2197080"/>
            <a:chOff x="4537080" y="1049400"/>
            <a:chExt cx="2160360" cy="2197080"/>
          </a:xfrm>
        </p:grpSpPr>
        <p:grpSp>
          <p:nvGrpSpPr>
            <p:cNvPr id="182" name=""/>
            <p:cNvGrpSpPr/>
            <p:nvPr/>
          </p:nvGrpSpPr>
          <p:grpSpPr>
            <a:xfrm>
              <a:off x="4537080" y="1476360"/>
              <a:ext cx="2160360" cy="1770120"/>
              <a:chOff x="4537080" y="1476360"/>
              <a:chExt cx="2160360" cy="1770120"/>
            </a:xfrm>
          </p:grpSpPr>
          <p:sp>
            <p:nvSpPr>
              <p:cNvPr id="183" name=""/>
              <p:cNvSpPr/>
              <p:nvPr/>
            </p:nvSpPr>
            <p:spPr>
              <a:xfrm>
                <a:off x="491580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2768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1580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788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7860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5112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112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3708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07672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24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528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32720" y="1049400"/>
            <a:ext cx="2160360" cy="2197080"/>
            <a:chOff x="6732720" y="1049400"/>
            <a:chExt cx="2160360" cy="2197080"/>
          </a:xfrm>
        </p:grpSpPr>
        <p:grpSp>
          <p:nvGrpSpPr>
            <p:cNvPr id="195" name=""/>
            <p:cNvGrpSpPr/>
            <p:nvPr/>
          </p:nvGrpSpPr>
          <p:grpSpPr>
            <a:xfrm>
              <a:off x="6732720" y="1476360"/>
              <a:ext cx="2160360" cy="1770120"/>
              <a:chOff x="6732720" y="1476360"/>
              <a:chExt cx="2160360" cy="1770120"/>
            </a:xfrm>
          </p:grpSpPr>
          <p:sp>
            <p:nvSpPr>
              <p:cNvPr id="196" name=""/>
              <p:cNvSpPr/>
              <p:nvPr/>
            </p:nvSpPr>
            <p:spPr>
              <a:xfrm>
                <a:off x="711144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2332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1144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741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742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676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676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272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27200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577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4056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3570120"/>
            <a:ext cx="2160360" cy="2197080"/>
            <a:chOff x="0" y="3570120"/>
            <a:chExt cx="2160360" cy="2197080"/>
          </a:xfrm>
        </p:grpSpPr>
        <p:grpSp>
          <p:nvGrpSpPr>
            <p:cNvPr id="208" name=""/>
            <p:cNvGrpSpPr/>
            <p:nvPr/>
          </p:nvGrpSpPr>
          <p:grpSpPr>
            <a:xfrm>
              <a:off x="0" y="3997080"/>
              <a:ext cx="2160360" cy="1770120"/>
              <a:chOff x="0" y="3997080"/>
              <a:chExt cx="2160360" cy="1770120"/>
            </a:xfrm>
          </p:grpSpPr>
          <p:sp>
            <p:nvSpPr>
              <p:cNvPr id="209" name=""/>
              <p:cNvSpPr/>
              <p:nvPr/>
            </p:nvSpPr>
            <p:spPr>
              <a:xfrm>
                <a:off x="37872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060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872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417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4152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04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4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396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536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820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195640" y="3570120"/>
            <a:ext cx="2160360" cy="2197080"/>
            <a:chOff x="2195640" y="3570120"/>
            <a:chExt cx="2160360" cy="2197080"/>
          </a:xfrm>
        </p:grpSpPr>
        <p:grpSp>
          <p:nvGrpSpPr>
            <p:cNvPr id="221" name=""/>
            <p:cNvGrpSpPr/>
            <p:nvPr/>
          </p:nvGrpSpPr>
          <p:grpSpPr>
            <a:xfrm>
              <a:off x="2195640" y="3997080"/>
              <a:ext cx="2160360" cy="1770120"/>
              <a:chOff x="2195640" y="3997080"/>
              <a:chExt cx="2160360" cy="1770120"/>
            </a:xfrm>
          </p:grpSpPr>
          <p:sp>
            <p:nvSpPr>
              <p:cNvPr id="222" name=""/>
              <p:cNvSpPr/>
              <p:nvPr/>
            </p:nvSpPr>
            <p:spPr>
              <a:xfrm>
                <a:off x="257436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8624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7436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370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371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0968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0968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9564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7349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064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0348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37080" y="3570120"/>
            <a:ext cx="2160360" cy="2197080"/>
            <a:chOff x="4537080" y="3570120"/>
            <a:chExt cx="2160360" cy="2197080"/>
          </a:xfrm>
        </p:grpSpPr>
        <p:grpSp>
          <p:nvGrpSpPr>
            <p:cNvPr id="234" name=""/>
            <p:cNvGrpSpPr/>
            <p:nvPr/>
          </p:nvGrpSpPr>
          <p:grpSpPr>
            <a:xfrm>
              <a:off x="4537080" y="3997080"/>
              <a:ext cx="2160360" cy="1770120"/>
              <a:chOff x="4537080" y="3997080"/>
              <a:chExt cx="2160360" cy="1770120"/>
            </a:xfrm>
          </p:grpSpPr>
          <p:sp>
            <p:nvSpPr>
              <p:cNvPr id="235" name=""/>
              <p:cNvSpPr/>
              <p:nvPr/>
            </p:nvSpPr>
            <p:spPr>
              <a:xfrm>
                <a:off x="491580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2768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1580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88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7860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5112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112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3708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07672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624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528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32720" y="3570120"/>
            <a:ext cx="2160360" cy="2197080"/>
            <a:chOff x="6732720" y="3570120"/>
            <a:chExt cx="2160360" cy="2197080"/>
          </a:xfrm>
        </p:grpSpPr>
        <p:grpSp>
          <p:nvGrpSpPr>
            <p:cNvPr id="247" name=""/>
            <p:cNvGrpSpPr/>
            <p:nvPr/>
          </p:nvGrpSpPr>
          <p:grpSpPr>
            <a:xfrm>
              <a:off x="6732720" y="3997080"/>
              <a:ext cx="2160360" cy="1770120"/>
              <a:chOff x="6732720" y="3997080"/>
              <a:chExt cx="2160360" cy="1770120"/>
            </a:xfrm>
          </p:grpSpPr>
          <p:sp>
            <p:nvSpPr>
              <p:cNvPr id="248" name=""/>
              <p:cNvSpPr/>
              <p:nvPr/>
            </p:nvSpPr>
            <p:spPr>
              <a:xfrm>
                <a:off x="711144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332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1144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7412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742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676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676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3272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7200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577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056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37120" y="1171440"/>
            <a:ext cx="1430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Segoe Print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17720" y="797040"/>
            <a:ext cx="1387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7400" y="923760"/>
            <a:ext cx="1524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52560" y="97956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8240" y="2901960"/>
            <a:ext cx="15296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20160" y="349884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4880" y="3382920"/>
            <a:ext cx="132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60480" y="349884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2320" y="605628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** The actual fonts used may be of a different fo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0" y="1049400"/>
            <a:ext cx="2160360" cy="2197080"/>
            <a:chOff x="0" y="1049400"/>
            <a:chExt cx="2160360" cy="2197080"/>
          </a:xfrm>
        </p:grpSpPr>
        <p:grpSp>
          <p:nvGrpSpPr>
            <p:cNvPr id="270" name=""/>
            <p:cNvGrpSpPr/>
            <p:nvPr/>
          </p:nvGrpSpPr>
          <p:grpSpPr>
            <a:xfrm>
              <a:off x="0" y="1476360"/>
              <a:ext cx="2160360" cy="1770120"/>
              <a:chOff x="0" y="1476360"/>
              <a:chExt cx="2160360" cy="17701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872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060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872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17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415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04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04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396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2536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0820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195640" y="1049400"/>
            <a:ext cx="2160360" cy="2197080"/>
            <a:chOff x="2195640" y="1049400"/>
            <a:chExt cx="2160360" cy="2197080"/>
          </a:xfrm>
        </p:grpSpPr>
        <p:grpSp>
          <p:nvGrpSpPr>
            <p:cNvPr id="283" name=""/>
            <p:cNvGrpSpPr/>
            <p:nvPr/>
          </p:nvGrpSpPr>
          <p:grpSpPr>
            <a:xfrm>
              <a:off x="2195640" y="1476360"/>
              <a:ext cx="2160360" cy="1770120"/>
              <a:chOff x="2195640" y="1476360"/>
              <a:chExt cx="2160360" cy="1770120"/>
            </a:xfrm>
          </p:grpSpPr>
          <p:sp>
            <p:nvSpPr>
              <p:cNvPr id="284" name=""/>
              <p:cNvSpPr/>
              <p:nvPr/>
            </p:nvSpPr>
            <p:spPr>
              <a:xfrm>
                <a:off x="257436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7436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370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371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0968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0968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9564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27349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064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348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37080" y="1049400"/>
            <a:ext cx="2160360" cy="2197080"/>
            <a:chOff x="4537080" y="1049400"/>
            <a:chExt cx="2160360" cy="2197080"/>
          </a:xfrm>
        </p:grpSpPr>
        <p:grpSp>
          <p:nvGrpSpPr>
            <p:cNvPr id="296" name=""/>
            <p:cNvGrpSpPr/>
            <p:nvPr/>
          </p:nvGrpSpPr>
          <p:grpSpPr>
            <a:xfrm>
              <a:off x="4537080" y="1476360"/>
              <a:ext cx="2160360" cy="1770120"/>
              <a:chOff x="4537080" y="1476360"/>
              <a:chExt cx="2160360" cy="1770120"/>
            </a:xfrm>
          </p:grpSpPr>
          <p:sp>
            <p:nvSpPr>
              <p:cNvPr id="297" name=""/>
              <p:cNvSpPr/>
              <p:nvPr/>
            </p:nvSpPr>
            <p:spPr>
              <a:xfrm>
                <a:off x="491580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2768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580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88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7860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5112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112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708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07672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624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528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732720" y="1049400"/>
            <a:ext cx="2160360" cy="2197080"/>
            <a:chOff x="6732720" y="1049400"/>
            <a:chExt cx="2160360" cy="2197080"/>
          </a:xfrm>
        </p:grpSpPr>
        <p:grpSp>
          <p:nvGrpSpPr>
            <p:cNvPr id="309" name=""/>
            <p:cNvGrpSpPr/>
            <p:nvPr/>
          </p:nvGrpSpPr>
          <p:grpSpPr>
            <a:xfrm>
              <a:off x="6732720" y="1476360"/>
              <a:ext cx="2160360" cy="1770120"/>
              <a:chOff x="6732720" y="1476360"/>
              <a:chExt cx="2160360" cy="1770120"/>
            </a:xfrm>
          </p:grpSpPr>
          <p:sp>
            <p:nvSpPr>
              <p:cNvPr id="310" name=""/>
              <p:cNvSpPr/>
              <p:nvPr/>
            </p:nvSpPr>
            <p:spPr>
              <a:xfrm>
                <a:off x="711144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2332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1144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741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742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4676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676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3272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27200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577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4056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95640" y="3570120"/>
            <a:ext cx="2160360" cy="2197080"/>
            <a:chOff x="2195640" y="3570120"/>
            <a:chExt cx="2160360" cy="2197080"/>
          </a:xfrm>
        </p:grpSpPr>
        <p:grpSp>
          <p:nvGrpSpPr>
            <p:cNvPr id="322" name=""/>
            <p:cNvGrpSpPr/>
            <p:nvPr/>
          </p:nvGrpSpPr>
          <p:grpSpPr>
            <a:xfrm>
              <a:off x="2195640" y="3997080"/>
              <a:ext cx="2160360" cy="1770120"/>
              <a:chOff x="2195640" y="3997080"/>
              <a:chExt cx="2160360" cy="1770120"/>
            </a:xfrm>
          </p:grpSpPr>
          <p:sp>
            <p:nvSpPr>
              <p:cNvPr id="323" name=""/>
              <p:cNvSpPr/>
              <p:nvPr/>
            </p:nvSpPr>
            <p:spPr>
              <a:xfrm>
                <a:off x="257436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7436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370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371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968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0968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9564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7349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064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0348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37080" y="3570120"/>
            <a:ext cx="2160360" cy="2197080"/>
            <a:chOff x="4537080" y="3570120"/>
            <a:chExt cx="2160360" cy="2197080"/>
          </a:xfrm>
        </p:grpSpPr>
        <p:grpSp>
          <p:nvGrpSpPr>
            <p:cNvPr id="335" name=""/>
            <p:cNvGrpSpPr/>
            <p:nvPr/>
          </p:nvGrpSpPr>
          <p:grpSpPr>
            <a:xfrm>
              <a:off x="4537080" y="3997080"/>
              <a:ext cx="2160360" cy="1770120"/>
              <a:chOff x="4537080" y="3997080"/>
              <a:chExt cx="2160360" cy="1770120"/>
            </a:xfrm>
          </p:grpSpPr>
          <p:sp>
            <p:nvSpPr>
              <p:cNvPr id="336" name=""/>
              <p:cNvSpPr/>
              <p:nvPr/>
            </p:nvSpPr>
            <p:spPr>
              <a:xfrm>
                <a:off x="491580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768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1580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788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7860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5112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112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3708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07672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624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528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36600" y="1087560"/>
            <a:ext cx="1733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69080" y="966960"/>
            <a:ext cx="1758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47000" y="365040"/>
            <a:ext cx="2009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95400" y="358128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11480" y="3613320"/>
            <a:ext cx="17780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16280" y="2031840"/>
            <a:ext cx="123336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14480" y="2424240"/>
            <a:ext cx="1233720" cy="18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3103920" y="2289600"/>
            <a:ext cx="123336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2534760" y="2278080"/>
            <a:ext cx="123372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3581280"/>
            <a:ext cx="2160360" cy="2197080"/>
            <a:chOff x="0" y="3581280"/>
            <a:chExt cx="2160360" cy="2197080"/>
          </a:xfrm>
        </p:grpSpPr>
        <p:grpSp>
          <p:nvGrpSpPr>
            <p:cNvPr id="358" name=""/>
            <p:cNvGrpSpPr/>
            <p:nvPr/>
          </p:nvGrpSpPr>
          <p:grpSpPr>
            <a:xfrm>
              <a:off x="0" y="4008240"/>
              <a:ext cx="2160360" cy="1770120"/>
              <a:chOff x="0" y="4008240"/>
              <a:chExt cx="2160360" cy="1770120"/>
            </a:xfrm>
          </p:grpSpPr>
          <p:sp>
            <p:nvSpPr>
              <p:cNvPr id="359" name=""/>
              <p:cNvSpPr/>
              <p:nvPr/>
            </p:nvSpPr>
            <p:spPr>
              <a:xfrm>
                <a:off x="378720" y="400824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0600" y="456516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8720" y="515088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41760" y="400824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41520" y="400824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040" y="408672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040" y="467136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52858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39640" y="358128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5360" y="358128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08200" y="358128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41200" y="2852640"/>
            <a:ext cx="17337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34160" y="3568680"/>
            <a:ext cx="2160360" cy="2197080"/>
            <a:chOff x="6734160" y="3568680"/>
            <a:chExt cx="2160360" cy="2197080"/>
          </a:xfrm>
        </p:grpSpPr>
        <p:grpSp>
          <p:nvGrpSpPr>
            <p:cNvPr id="372" name=""/>
            <p:cNvGrpSpPr/>
            <p:nvPr/>
          </p:nvGrpSpPr>
          <p:grpSpPr>
            <a:xfrm>
              <a:off x="6734160" y="3995640"/>
              <a:ext cx="2160360" cy="1770120"/>
              <a:chOff x="6734160" y="3995640"/>
              <a:chExt cx="2160360" cy="1770120"/>
            </a:xfrm>
          </p:grpSpPr>
          <p:sp>
            <p:nvSpPr>
              <p:cNvPr id="373" name=""/>
              <p:cNvSpPr/>
              <p:nvPr/>
            </p:nvSpPr>
            <p:spPr>
              <a:xfrm>
                <a:off x="7112880" y="399564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24760" y="455256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12880" y="513828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75920" y="399564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75680" y="399564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48200" y="407412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48200" y="465876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4160" y="52732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273800" y="356868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59520" y="356868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42360" y="356868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229520" y="3503520"/>
            <a:ext cx="173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2:48:19Z</dcterms:created>
  <dc:creator>Ric</dc:creator>
  <dc:description/>
  <dc:language>en-US</dc:language>
  <cp:lastModifiedBy>jediadmin</cp:lastModifiedBy>
  <dcterms:modified xsi:type="dcterms:W3CDTF">2010-07-26T01:51:28Z</dcterms:modified>
  <cp:revision>8</cp:revision>
  <dc:subject/>
  <dc:title>Slide 1</dc:title>
</cp:coreProperties>
</file>