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DF80-E496-4EA1-AA3C-23355F6DD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3B6F-DE17-44DF-8AB0-B1D02A04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45C6-0280-49C9-8F61-0AF3F2120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1851-8CAC-4817-90FC-E812CB30F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BC73-CC8F-4A40-A2FF-2BDECBBE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DDBA-5CFE-4B37-859E-5D0EDD56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ED55-C1F0-42AB-A080-905F2EAD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EA12-9CC5-4114-8F26-60EB19B5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1ACF-8603-45CA-966A-FDE9D1FD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E566-5A75-443C-BE9A-1DD8EF53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EB54-3E5E-48F3-AE17-ED0F3E12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2D12-43FE-431A-B14F-CC4B2783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188E-4424-4B4C-876D-8BF7C0BEF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966960"/>
            <a:ext cx="8893080" cy="5247000"/>
            <a:chOff x="0" y="966960"/>
            <a:chExt cx="8893080" cy="5247000"/>
          </a:xfrm>
        </p:grpSpPr>
        <p:grpSp>
          <p:nvGrpSpPr>
            <p:cNvPr id="42" name=""/>
            <p:cNvGrpSpPr/>
            <p:nvPr/>
          </p:nvGrpSpPr>
          <p:grpSpPr>
            <a:xfrm>
              <a:off x="0" y="1049400"/>
              <a:ext cx="2160360" cy="2196360"/>
              <a:chOff x="0" y="1049400"/>
              <a:chExt cx="2160360" cy="219636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0" y="1476000"/>
                <a:ext cx="2160360" cy="1769760"/>
                <a:chOff x="0" y="1476000"/>
                <a:chExt cx="2160360" cy="1769760"/>
              </a:xfrm>
            </p:grpSpPr>
            <p:sp>
              <p:nvSpPr>
                <p:cNvPr id="44" name=""/>
                <p:cNvSpPr/>
                <p:nvPr/>
              </p:nvSpPr>
              <p:spPr>
                <a:xfrm>
                  <a:off x="378720" y="1476000"/>
                  <a:ext cx="1770120" cy="1769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390600" y="2032920"/>
                  <a:ext cx="1769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378720" y="2618280"/>
                  <a:ext cx="1770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941760" y="1476000"/>
                  <a:ext cx="0" cy="176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1541520" y="1476000"/>
                  <a:ext cx="0" cy="176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14040" y="1554480"/>
                  <a:ext cx="328680" cy="35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SimSu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14040" y="2138760"/>
                  <a:ext cx="3286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SimSu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0" y="2753280"/>
                  <a:ext cx="3286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SimSu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" name=""/>
              <p:cNvSpPr/>
              <p:nvPr/>
            </p:nvSpPr>
            <p:spPr>
              <a:xfrm>
                <a:off x="539640" y="1049400"/>
                <a:ext cx="328680" cy="3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125360" y="1049400"/>
                <a:ext cx="328680" cy="3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708200" y="1049400"/>
                <a:ext cx="326880" cy="3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2195640" y="1049400"/>
              <a:ext cx="2160360" cy="2196360"/>
              <a:chOff x="2195640" y="1049400"/>
              <a:chExt cx="2160360" cy="2196360"/>
            </a:xfrm>
          </p:grpSpPr>
          <p:grpSp>
            <p:nvGrpSpPr>
              <p:cNvPr id="56" name=""/>
              <p:cNvGrpSpPr/>
              <p:nvPr/>
            </p:nvGrpSpPr>
            <p:grpSpPr>
              <a:xfrm>
                <a:off x="2195640" y="1476000"/>
                <a:ext cx="2160360" cy="1769760"/>
                <a:chOff x="2195640" y="1476000"/>
                <a:chExt cx="2160360" cy="176976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2574360" y="1476000"/>
                  <a:ext cx="1769760" cy="1769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2586240" y="2032920"/>
                  <a:ext cx="1769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574360" y="2618280"/>
                  <a:ext cx="1769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137040" y="1476000"/>
                  <a:ext cx="0" cy="176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3737160" y="1476000"/>
                  <a:ext cx="0" cy="176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2209680" y="1554480"/>
                  <a:ext cx="328680" cy="35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SimSu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2209680" y="2138760"/>
                  <a:ext cx="3286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SimSu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2195640" y="2753280"/>
                  <a:ext cx="3286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SimSu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" name=""/>
              <p:cNvSpPr/>
              <p:nvPr/>
            </p:nvSpPr>
            <p:spPr>
              <a:xfrm>
                <a:off x="2734920" y="1049400"/>
                <a:ext cx="328320" cy="3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320640" y="1049400"/>
                <a:ext cx="328320" cy="3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903480" y="1049400"/>
                <a:ext cx="326520" cy="3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4537080" y="1049400"/>
              <a:ext cx="2160360" cy="2196360"/>
              <a:chOff x="4537080" y="1049400"/>
              <a:chExt cx="2160360" cy="219636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4537080" y="1476000"/>
                <a:ext cx="2160360" cy="1769760"/>
                <a:chOff x="4537080" y="1476000"/>
                <a:chExt cx="2160360" cy="176976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4915800" y="1476000"/>
                  <a:ext cx="1770120" cy="1769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4927680" y="2032920"/>
                  <a:ext cx="1769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915800" y="2618280"/>
                  <a:ext cx="1770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478840" y="1476000"/>
                  <a:ext cx="0" cy="176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6078600" y="1476000"/>
                  <a:ext cx="0" cy="176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4551120" y="1554480"/>
                  <a:ext cx="328680" cy="35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SimSu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551120" y="2138760"/>
                  <a:ext cx="3286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SimSu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537080" y="2753280"/>
                  <a:ext cx="3286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SimSu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5076720" y="1049400"/>
                <a:ext cx="328680" cy="3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662440" y="1049400"/>
                <a:ext cx="328680" cy="3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245280" y="1049400"/>
                <a:ext cx="326880" cy="3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6732720" y="1049400"/>
              <a:ext cx="2160360" cy="2196360"/>
              <a:chOff x="6732720" y="1049400"/>
              <a:chExt cx="2160360" cy="2196360"/>
            </a:xfrm>
          </p:grpSpPr>
          <p:grpSp>
            <p:nvGrpSpPr>
              <p:cNvPr id="82" name=""/>
              <p:cNvGrpSpPr/>
              <p:nvPr/>
            </p:nvGrpSpPr>
            <p:grpSpPr>
              <a:xfrm>
                <a:off x="6732720" y="1476000"/>
                <a:ext cx="2160360" cy="1769760"/>
                <a:chOff x="6732720" y="1476000"/>
                <a:chExt cx="2160360" cy="176976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7111440" y="1476000"/>
                  <a:ext cx="1769760" cy="1769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7123320" y="2032920"/>
                  <a:ext cx="1769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7111440" y="2618280"/>
                  <a:ext cx="1769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7674120" y="1476000"/>
                  <a:ext cx="0" cy="176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8274240" y="1476000"/>
                  <a:ext cx="0" cy="176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6746760" y="1554480"/>
                  <a:ext cx="328680" cy="35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SimSu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6746760" y="2138760"/>
                  <a:ext cx="3286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SimSu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6732720" y="2753280"/>
                  <a:ext cx="3286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SimSu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" name=""/>
              <p:cNvSpPr/>
              <p:nvPr/>
            </p:nvSpPr>
            <p:spPr>
              <a:xfrm>
                <a:off x="7272000" y="1049400"/>
                <a:ext cx="328320" cy="3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857720" y="1049400"/>
                <a:ext cx="328320" cy="3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440560" y="1049400"/>
                <a:ext cx="326520" cy="3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0" y="3570120"/>
              <a:ext cx="2160360" cy="2196360"/>
              <a:chOff x="0" y="3570120"/>
              <a:chExt cx="2160360" cy="2196360"/>
            </a:xfrm>
          </p:grpSpPr>
          <p:grpSp>
            <p:nvGrpSpPr>
              <p:cNvPr id="95" name=""/>
              <p:cNvGrpSpPr/>
              <p:nvPr/>
            </p:nvGrpSpPr>
            <p:grpSpPr>
              <a:xfrm>
                <a:off x="0" y="3996720"/>
                <a:ext cx="2160360" cy="1769760"/>
                <a:chOff x="0" y="3996720"/>
                <a:chExt cx="2160360" cy="176976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378720" y="3996720"/>
                  <a:ext cx="1770120" cy="1769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390600" y="4553640"/>
                  <a:ext cx="1769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78720" y="5139000"/>
                  <a:ext cx="1770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941760" y="3996720"/>
                  <a:ext cx="0" cy="176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41520" y="3996720"/>
                  <a:ext cx="0" cy="176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14040" y="4075200"/>
                  <a:ext cx="328680" cy="35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SimSu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14040" y="4659480"/>
                  <a:ext cx="3286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SimSu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5274000"/>
                  <a:ext cx="3286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SimSu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"/>
              <p:cNvSpPr/>
              <p:nvPr/>
            </p:nvSpPr>
            <p:spPr>
              <a:xfrm>
                <a:off x="539640" y="3570120"/>
                <a:ext cx="328680" cy="3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125360" y="3570120"/>
                <a:ext cx="328680" cy="3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708200" y="3570120"/>
                <a:ext cx="326880" cy="3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2195640" y="3570120"/>
              <a:ext cx="2160360" cy="2196360"/>
              <a:chOff x="2195640" y="3570120"/>
              <a:chExt cx="2160360" cy="2196360"/>
            </a:xfrm>
          </p:grpSpPr>
          <p:grpSp>
            <p:nvGrpSpPr>
              <p:cNvPr id="108" name=""/>
              <p:cNvGrpSpPr/>
              <p:nvPr/>
            </p:nvGrpSpPr>
            <p:grpSpPr>
              <a:xfrm>
                <a:off x="2195640" y="3996720"/>
                <a:ext cx="2160360" cy="1769760"/>
                <a:chOff x="2195640" y="3996720"/>
                <a:chExt cx="2160360" cy="176976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2574360" y="3996720"/>
                  <a:ext cx="1769760" cy="1769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2586240" y="4553640"/>
                  <a:ext cx="1769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2574360" y="5139000"/>
                  <a:ext cx="1769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137040" y="3996720"/>
                  <a:ext cx="0" cy="176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737160" y="3996720"/>
                  <a:ext cx="0" cy="176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209680" y="4075200"/>
                  <a:ext cx="328680" cy="35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SimSu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209680" y="4659480"/>
                  <a:ext cx="3286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SimSu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195640" y="5274000"/>
                  <a:ext cx="3286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SimSu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2734920" y="3570120"/>
                <a:ext cx="328320" cy="3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320640" y="3570120"/>
                <a:ext cx="328320" cy="3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903480" y="3570120"/>
                <a:ext cx="326520" cy="3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4537080" y="3570120"/>
              <a:ext cx="2160360" cy="2196360"/>
              <a:chOff x="4537080" y="3570120"/>
              <a:chExt cx="2160360" cy="2196360"/>
            </a:xfrm>
          </p:grpSpPr>
          <p:grpSp>
            <p:nvGrpSpPr>
              <p:cNvPr id="121" name=""/>
              <p:cNvGrpSpPr/>
              <p:nvPr/>
            </p:nvGrpSpPr>
            <p:grpSpPr>
              <a:xfrm>
                <a:off x="4537080" y="3996720"/>
                <a:ext cx="2160360" cy="1769760"/>
                <a:chOff x="4537080" y="3996720"/>
                <a:chExt cx="2160360" cy="176976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4915800" y="3996720"/>
                  <a:ext cx="1770120" cy="1769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4927680" y="4553640"/>
                  <a:ext cx="1769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4915800" y="5139000"/>
                  <a:ext cx="1770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478840" y="3996720"/>
                  <a:ext cx="0" cy="176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078600" y="3996720"/>
                  <a:ext cx="0" cy="176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4551120" y="4075200"/>
                  <a:ext cx="328680" cy="35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SimSu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551120" y="4659480"/>
                  <a:ext cx="3286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SimSu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537080" y="5274000"/>
                  <a:ext cx="3286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SimSu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" name=""/>
              <p:cNvSpPr/>
              <p:nvPr/>
            </p:nvSpPr>
            <p:spPr>
              <a:xfrm>
                <a:off x="5076720" y="3570120"/>
                <a:ext cx="328680" cy="3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662440" y="3570120"/>
                <a:ext cx="328680" cy="3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245280" y="3570120"/>
                <a:ext cx="326880" cy="3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6732720" y="3570120"/>
              <a:ext cx="2160360" cy="2196360"/>
              <a:chOff x="6732720" y="3570120"/>
              <a:chExt cx="2160360" cy="219636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6732720" y="3996720"/>
                <a:ext cx="2160360" cy="1769760"/>
                <a:chOff x="6732720" y="3996720"/>
                <a:chExt cx="2160360" cy="176976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7111440" y="3996720"/>
                  <a:ext cx="1769760" cy="1769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7123320" y="4553640"/>
                  <a:ext cx="1769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111440" y="5139000"/>
                  <a:ext cx="1769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7674120" y="3996720"/>
                  <a:ext cx="0" cy="176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8274240" y="3996720"/>
                  <a:ext cx="0" cy="176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6746760" y="4075200"/>
                  <a:ext cx="328680" cy="35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SimSu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746760" y="4659480"/>
                  <a:ext cx="3286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SimSu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732720" y="5274000"/>
                  <a:ext cx="3286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SimSu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" name=""/>
              <p:cNvSpPr/>
              <p:nvPr/>
            </p:nvSpPr>
            <p:spPr>
              <a:xfrm>
                <a:off x="7272000" y="3570120"/>
                <a:ext cx="328320" cy="3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857720" y="3570120"/>
                <a:ext cx="328320" cy="3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40560" y="3570120"/>
                <a:ext cx="326520" cy="3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397080" y="987480"/>
              <a:ext cx="1637640" cy="27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47440" y="984240"/>
              <a:ext cx="1514160" cy="27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54680" y="966960"/>
              <a:ext cx="1758240" cy="27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13960" y="979560"/>
              <a:ext cx="1637640" cy="27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8000" y="3570120"/>
              <a:ext cx="1721520" cy="247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5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10000" y="3498840"/>
              <a:ext cx="1758240" cy="27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915080" y="3498840"/>
              <a:ext cx="1637640" cy="27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64720" y="3498840"/>
              <a:ext cx="1637640" cy="27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18160" y="214200"/>
            <a:ext cx="75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the figures based on your analysis of the data coll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0" y="966960"/>
            <a:ext cx="8893080" cy="5247000"/>
            <a:chOff x="0" y="966960"/>
            <a:chExt cx="8893080" cy="5247000"/>
          </a:xfrm>
        </p:grpSpPr>
        <p:grpSp>
          <p:nvGrpSpPr>
            <p:cNvPr id="156" name=""/>
            <p:cNvGrpSpPr/>
            <p:nvPr/>
          </p:nvGrpSpPr>
          <p:grpSpPr>
            <a:xfrm>
              <a:off x="0" y="1049400"/>
              <a:ext cx="2160360" cy="2196360"/>
              <a:chOff x="0" y="1049400"/>
              <a:chExt cx="2160360" cy="2196360"/>
            </a:xfrm>
          </p:grpSpPr>
          <p:grpSp>
            <p:nvGrpSpPr>
              <p:cNvPr id="157" name=""/>
              <p:cNvGrpSpPr/>
              <p:nvPr/>
            </p:nvGrpSpPr>
            <p:grpSpPr>
              <a:xfrm>
                <a:off x="0" y="1476000"/>
                <a:ext cx="2160360" cy="1769760"/>
                <a:chOff x="0" y="1476000"/>
                <a:chExt cx="2160360" cy="176976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378720" y="1476000"/>
                  <a:ext cx="1770120" cy="1769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390600" y="2032920"/>
                  <a:ext cx="1769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78720" y="2618280"/>
                  <a:ext cx="1770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941760" y="1476000"/>
                  <a:ext cx="0" cy="176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541520" y="1476000"/>
                  <a:ext cx="0" cy="176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14040" y="1554480"/>
                  <a:ext cx="328680" cy="35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SimSu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4040" y="2138760"/>
                  <a:ext cx="3286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SimSu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0" y="2753280"/>
                  <a:ext cx="3286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SimSu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"/>
              <p:cNvSpPr/>
              <p:nvPr/>
            </p:nvSpPr>
            <p:spPr>
              <a:xfrm>
                <a:off x="539640" y="1049400"/>
                <a:ext cx="328680" cy="3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125360" y="1049400"/>
                <a:ext cx="328680" cy="3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708200" y="1049400"/>
                <a:ext cx="326880" cy="3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2195640" y="1049400"/>
              <a:ext cx="2160360" cy="2196360"/>
              <a:chOff x="2195640" y="1049400"/>
              <a:chExt cx="2160360" cy="2196360"/>
            </a:xfrm>
          </p:grpSpPr>
          <p:grpSp>
            <p:nvGrpSpPr>
              <p:cNvPr id="170" name=""/>
              <p:cNvGrpSpPr/>
              <p:nvPr/>
            </p:nvGrpSpPr>
            <p:grpSpPr>
              <a:xfrm>
                <a:off x="2195640" y="1476000"/>
                <a:ext cx="2160360" cy="1769760"/>
                <a:chOff x="2195640" y="1476000"/>
                <a:chExt cx="2160360" cy="17697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2574360" y="1476000"/>
                  <a:ext cx="1769760" cy="1769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586240" y="2032920"/>
                  <a:ext cx="1769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574360" y="2618280"/>
                  <a:ext cx="1769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137040" y="1476000"/>
                  <a:ext cx="0" cy="176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3737160" y="1476000"/>
                  <a:ext cx="0" cy="176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209680" y="1554480"/>
                  <a:ext cx="328680" cy="35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SimSu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2209680" y="2138760"/>
                  <a:ext cx="3286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SimSu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2195640" y="2753280"/>
                  <a:ext cx="3286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SimSu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"/>
              <p:cNvSpPr/>
              <p:nvPr/>
            </p:nvSpPr>
            <p:spPr>
              <a:xfrm>
                <a:off x="2734920" y="1049400"/>
                <a:ext cx="328320" cy="3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320640" y="1049400"/>
                <a:ext cx="328320" cy="3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903480" y="1049400"/>
                <a:ext cx="326520" cy="3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537080" y="1049400"/>
              <a:ext cx="2160360" cy="2196360"/>
              <a:chOff x="4537080" y="1049400"/>
              <a:chExt cx="2160360" cy="219636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4537080" y="1476000"/>
                <a:ext cx="2160360" cy="1769760"/>
                <a:chOff x="4537080" y="1476000"/>
                <a:chExt cx="2160360" cy="176976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4915800" y="1476000"/>
                  <a:ext cx="1770120" cy="1769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927680" y="2032920"/>
                  <a:ext cx="1769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915800" y="2618280"/>
                  <a:ext cx="1770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5478840" y="1476000"/>
                  <a:ext cx="0" cy="176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078600" y="1476000"/>
                  <a:ext cx="0" cy="176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551120" y="1554480"/>
                  <a:ext cx="328680" cy="35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SimSu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551120" y="2138760"/>
                  <a:ext cx="3286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SimSu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537080" y="2753280"/>
                  <a:ext cx="3286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SimSu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5076720" y="1049400"/>
                <a:ext cx="328680" cy="3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662440" y="1049400"/>
                <a:ext cx="328680" cy="3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245280" y="1049400"/>
                <a:ext cx="326880" cy="3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6732720" y="1049400"/>
              <a:ext cx="2160360" cy="2196360"/>
              <a:chOff x="6732720" y="1049400"/>
              <a:chExt cx="2160360" cy="219636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6732720" y="1476000"/>
                <a:ext cx="2160360" cy="1769760"/>
                <a:chOff x="6732720" y="1476000"/>
                <a:chExt cx="2160360" cy="176976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7111440" y="1476000"/>
                  <a:ext cx="1769760" cy="1769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123320" y="2032920"/>
                  <a:ext cx="1769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111440" y="2618280"/>
                  <a:ext cx="1769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674120" y="1476000"/>
                  <a:ext cx="0" cy="176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8274240" y="1476000"/>
                  <a:ext cx="0" cy="176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6746760" y="1554480"/>
                  <a:ext cx="328680" cy="35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SimSu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746760" y="2138760"/>
                  <a:ext cx="3286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SimSu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6732720" y="2753280"/>
                  <a:ext cx="3286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SimSu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7272000" y="1049400"/>
                <a:ext cx="328320" cy="3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857720" y="1049400"/>
                <a:ext cx="328320" cy="3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440560" y="1049400"/>
                <a:ext cx="326520" cy="3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0" y="3570120"/>
              <a:ext cx="2160360" cy="2196360"/>
              <a:chOff x="0" y="3570120"/>
              <a:chExt cx="2160360" cy="2196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0" y="3996720"/>
                <a:ext cx="2160360" cy="1769760"/>
                <a:chOff x="0" y="3996720"/>
                <a:chExt cx="2160360" cy="176976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378720" y="3996720"/>
                  <a:ext cx="1770120" cy="1769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390600" y="4553640"/>
                  <a:ext cx="1769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78720" y="5139000"/>
                  <a:ext cx="1770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941760" y="3996720"/>
                  <a:ext cx="0" cy="176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1541520" y="3996720"/>
                  <a:ext cx="0" cy="176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4040" y="4075200"/>
                  <a:ext cx="328680" cy="35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SimSu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4040" y="4659480"/>
                  <a:ext cx="3286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SimSu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0" y="5274000"/>
                  <a:ext cx="3286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SimSu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>
                <a:off x="539640" y="3570120"/>
                <a:ext cx="328680" cy="3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125360" y="3570120"/>
                <a:ext cx="328680" cy="3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708200" y="3570120"/>
                <a:ext cx="326880" cy="3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2195640" y="3570120"/>
              <a:ext cx="2160360" cy="2196360"/>
              <a:chOff x="2195640" y="3570120"/>
              <a:chExt cx="2160360" cy="219636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2195640" y="3996720"/>
                <a:ext cx="2160360" cy="1769760"/>
                <a:chOff x="2195640" y="3996720"/>
                <a:chExt cx="2160360" cy="176976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2574360" y="3996720"/>
                  <a:ext cx="1769760" cy="1769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586240" y="4553640"/>
                  <a:ext cx="1769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2574360" y="5139000"/>
                  <a:ext cx="1769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137040" y="3996720"/>
                  <a:ext cx="0" cy="176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737160" y="3996720"/>
                  <a:ext cx="0" cy="176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2209680" y="4075200"/>
                  <a:ext cx="328680" cy="35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SimSu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2209680" y="4659480"/>
                  <a:ext cx="3286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SimSu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195640" y="5274000"/>
                  <a:ext cx="3286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SimSu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2734920" y="3570120"/>
                <a:ext cx="328320" cy="3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320640" y="3570120"/>
                <a:ext cx="328320" cy="3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903480" y="3570120"/>
                <a:ext cx="326520" cy="3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537080" y="3570120"/>
              <a:ext cx="2160360" cy="2196360"/>
              <a:chOff x="4537080" y="3570120"/>
              <a:chExt cx="2160360" cy="219636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4537080" y="3996720"/>
                <a:ext cx="2160360" cy="1769760"/>
                <a:chOff x="4537080" y="3996720"/>
                <a:chExt cx="2160360" cy="176976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4915800" y="3996720"/>
                  <a:ext cx="1770120" cy="1769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927680" y="4553640"/>
                  <a:ext cx="1769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915800" y="5139000"/>
                  <a:ext cx="1770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478840" y="3996720"/>
                  <a:ext cx="0" cy="176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6078600" y="3996720"/>
                  <a:ext cx="0" cy="176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4551120" y="4075200"/>
                  <a:ext cx="328680" cy="35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SimSu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551120" y="4659480"/>
                  <a:ext cx="3286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SimSu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4537080" y="5274000"/>
                  <a:ext cx="3286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SimSu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076720" y="3570120"/>
                <a:ext cx="328680" cy="3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662440" y="3570120"/>
                <a:ext cx="328680" cy="3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245280" y="3570120"/>
                <a:ext cx="326880" cy="3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6732720" y="3570120"/>
              <a:ext cx="2160360" cy="2196360"/>
              <a:chOff x="6732720" y="3570120"/>
              <a:chExt cx="2160360" cy="2196360"/>
            </a:xfrm>
          </p:grpSpPr>
          <p:grpSp>
            <p:nvGrpSpPr>
              <p:cNvPr id="248" name=""/>
              <p:cNvGrpSpPr/>
              <p:nvPr/>
            </p:nvGrpSpPr>
            <p:grpSpPr>
              <a:xfrm>
                <a:off x="6732720" y="3996720"/>
                <a:ext cx="2160360" cy="1769760"/>
                <a:chOff x="6732720" y="3996720"/>
                <a:chExt cx="2160360" cy="176976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7111440" y="3996720"/>
                  <a:ext cx="1769760" cy="1769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123320" y="4553640"/>
                  <a:ext cx="1769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7111440" y="5139000"/>
                  <a:ext cx="1769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7674120" y="3996720"/>
                  <a:ext cx="0" cy="176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8274240" y="3996720"/>
                  <a:ext cx="0" cy="176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6746760" y="4075200"/>
                  <a:ext cx="328680" cy="35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SimSu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6746760" y="4659480"/>
                  <a:ext cx="3286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SimSu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6732720" y="5274000"/>
                  <a:ext cx="32868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SimSu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7" name=""/>
              <p:cNvSpPr/>
              <p:nvPr/>
            </p:nvSpPr>
            <p:spPr>
              <a:xfrm>
                <a:off x="7272000" y="3570120"/>
                <a:ext cx="328320" cy="3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857720" y="3570120"/>
                <a:ext cx="328320" cy="3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440560" y="3570120"/>
                <a:ext cx="326520" cy="3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482400" y="987480"/>
              <a:ext cx="1395360" cy="27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817720" y="969840"/>
              <a:ext cx="1395360" cy="27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11640" y="966960"/>
              <a:ext cx="1395360" cy="27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313400" y="979560"/>
              <a:ext cx="1395360" cy="27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49080" y="3570120"/>
              <a:ext cx="1282680" cy="247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5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781000" y="3498840"/>
              <a:ext cx="1395360" cy="27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14880" y="3498840"/>
              <a:ext cx="1395360" cy="27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321320" y="3498840"/>
              <a:ext cx="1395360" cy="27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18160" y="214200"/>
            <a:ext cx="75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the figures based on your analysis of the data coll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0" y="1049400"/>
            <a:ext cx="2160360" cy="2197080"/>
            <a:chOff x="0" y="1049400"/>
            <a:chExt cx="2160360" cy="2197080"/>
          </a:xfrm>
        </p:grpSpPr>
        <p:grpSp>
          <p:nvGrpSpPr>
            <p:cNvPr id="270" name=""/>
            <p:cNvGrpSpPr/>
            <p:nvPr/>
          </p:nvGrpSpPr>
          <p:grpSpPr>
            <a:xfrm>
              <a:off x="0" y="1476360"/>
              <a:ext cx="2160360" cy="1770120"/>
              <a:chOff x="0" y="1476360"/>
              <a:chExt cx="2160360" cy="1770120"/>
            </a:xfrm>
          </p:grpSpPr>
          <p:sp>
            <p:nvSpPr>
              <p:cNvPr id="271" name=""/>
              <p:cNvSpPr/>
              <p:nvPr/>
            </p:nvSpPr>
            <p:spPr>
              <a:xfrm>
                <a:off x="378720" y="1476360"/>
                <a:ext cx="1770120" cy="17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90600" y="2033280"/>
                <a:ext cx="176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78720" y="2619000"/>
                <a:ext cx="177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941760" y="1476360"/>
                <a:ext cx="0" cy="17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541520" y="1476360"/>
                <a:ext cx="0" cy="17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4040" y="1554840"/>
                <a:ext cx="328680" cy="35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4040" y="2139480"/>
                <a:ext cx="3286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0" y="2754000"/>
                <a:ext cx="3286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539640" y="1049400"/>
              <a:ext cx="328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25360" y="1049400"/>
              <a:ext cx="328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08200" y="1049400"/>
              <a:ext cx="3268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2195640" y="1049400"/>
            <a:ext cx="2160360" cy="2197080"/>
            <a:chOff x="2195640" y="1049400"/>
            <a:chExt cx="2160360" cy="2197080"/>
          </a:xfrm>
        </p:grpSpPr>
        <p:grpSp>
          <p:nvGrpSpPr>
            <p:cNvPr id="283" name=""/>
            <p:cNvGrpSpPr/>
            <p:nvPr/>
          </p:nvGrpSpPr>
          <p:grpSpPr>
            <a:xfrm>
              <a:off x="2195640" y="1476360"/>
              <a:ext cx="2160360" cy="1770120"/>
              <a:chOff x="2195640" y="1476360"/>
              <a:chExt cx="2160360" cy="1770120"/>
            </a:xfrm>
          </p:grpSpPr>
          <p:sp>
            <p:nvSpPr>
              <p:cNvPr id="284" name=""/>
              <p:cNvSpPr/>
              <p:nvPr/>
            </p:nvSpPr>
            <p:spPr>
              <a:xfrm>
                <a:off x="2574360" y="1476360"/>
                <a:ext cx="1769760" cy="17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586240" y="2033280"/>
                <a:ext cx="176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574360" y="2619000"/>
                <a:ext cx="176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137040" y="1476360"/>
                <a:ext cx="0" cy="17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737160" y="1476360"/>
                <a:ext cx="0" cy="17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209680" y="1554840"/>
                <a:ext cx="328680" cy="35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209680" y="2139480"/>
                <a:ext cx="3286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195640" y="2754000"/>
                <a:ext cx="3286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2734920" y="1049400"/>
              <a:ext cx="328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320640" y="1049400"/>
              <a:ext cx="328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903480" y="1049400"/>
              <a:ext cx="3265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4537080" y="1049400"/>
            <a:ext cx="2160360" cy="2197080"/>
            <a:chOff x="4537080" y="1049400"/>
            <a:chExt cx="2160360" cy="2197080"/>
          </a:xfrm>
        </p:grpSpPr>
        <p:grpSp>
          <p:nvGrpSpPr>
            <p:cNvPr id="296" name=""/>
            <p:cNvGrpSpPr/>
            <p:nvPr/>
          </p:nvGrpSpPr>
          <p:grpSpPr>
            <a:xfrm>
              <a:off x="4537080" y="1476360"/>
              <a:ext cx="2160360" cy="1770120"/>
              <a:chOff x="4537080" y="1476360"/>
              <a:chExt cx="2160360" cy="1770120"/>
            </a:xfrm>
          </p:grpSpPr>
          <p:sp>
            <p:nvSpPr>
              <p:cNvPr id="297" name=""/>
              <p:cNvSpPr/>
              <p:nvPr/>
            </p:nvSpPr>
            <p:spPr>
              <a:xfrm>
                <a:off x="4915800" y="1476360"/>
                <a:ext cx="1770120" cy="17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927680" y="2033280"/>
                <a:ext cx="176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915800" y="2619000"/>
                <a:ext cx="177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78840" y="1476360"/>
                <a:ext cx="0" cy="17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078600" y="1476360"/>
                <a:ext cx="0" cy="17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551120" y="1554840"/>
                <a:ext cx="328680" cy="35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551120" y="2139480"/>
                <a:ext cx="3286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537080" y="2754000"/>
                <a:ext cx="3286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5076720" y="1049400"/>
              <a:ext cx="328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662440" y="1049400"/>
              <a:ext cx="328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245280" y="1049400"/>
              <a:ext cx="3268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6732720" y="1049400"/>
            <a:ext cx="2160360" cy="2197080"/>
            <a:chOff x="6732720" y="1049400"/>
            <a:chExt cx="2160360" cy="2197080"/>
          </a:xfrm>
        </p:grpSpPr>
        <p:grpSp>
          <p:nvGrpSpPr>
            <p:cNvPr id="309" name=""/>
            <p:cNvGrpSpPr/>
            <p:nvPr/>
          </p:nvGrpSpPr>
          <p:grpSpPr>
            <a:xfrm>
              <a:off x="6732720" y="1476360"/>
              <a:ext cx="2160360" cy="1770120"/>
              <a:chOff x="6732720" y="1476360"/>
              <a:chExt cx="2160360" cy="1770120"/>
            </a:xfrm>
          </p:grpSpPr>
          <p:sp>
            <p:nvSpPr>
              <p:cNvPr id="310" name=""/>
              <p:cNvSpPr/>
              <p:nvPr/>
            </p:nvSpPr>
            <p:spPr>
              <a:xfrm>
                <a:off x="7111440" y="1476360"/>
                <a:ext cx="1769760" cy="17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123320" y="2033280"/>
                <a:ext cx="176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111440" y="2619000"/>
                <a:ext cx="176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674120" y="1476360"/>
                <a:ext cx="0" cy="17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274240" y="1476360"/>
                <a:ext cx="0" cy="17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746760" y="1554840"/>
                <a:ext cx="328680" cy="35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746760" y="2139480"/>
                <a:ext cx="3286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732720" y="2754000"/>
                <a:ext cx="3286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7272000" y="1049400"/>
              <a:ext cx="328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857720" y="1049400"/>
              <a:ext cx="328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440560" y="1049400"/>
              <a:ext cx="3265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2195640" y="3570120"/>
            <a:ext cx="2160360" cy="2197080"/>
            <a:chOff x="2195640" y="3570120"/>
            <a:chExt cx="2160360" cy="2197080"/>
          </a:xfrm>
        </p:grpSpPr>
        <p:grpSp>
          <p:nvGrpSpPr>
            <p:cNvPr id="322" name=""/>
            <p:cNvGrpSpPr/>
            <p:nvPr/>
          </p:nvGrpSpPr>
          <p:grpSpPr>
            <a:xfrm>
              <a:off x="2195640" y="3997080"/>
              <a:ext cx="2160360" cy="1770120"/>
              <a:chOff x="2195640" y="3997080"/>
              <a:chExt cx="2160360" cy="1770120"/>
            </a:xfrm>
          </p:grpSpPr>
          <p:sp>
            <p:nvSpPr>
              <p:cNvPr id="323" name=""/>
              <p:cNvSpPr/>
              <p:nvPr/>
            </p:nvSpPr>
            <p:spPr>
              <a:xfrm>
                <a:off x="2574360" y="3997080"/>
                <a:ext cx="1769760" cy="17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586240" y="4554000"/>
                <a:ext cx="176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574360" y="5139720"/>
                <a:ext cx="176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137040" y="3997080"/>
                <a:ext cx="0" cy="17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737160" y="3997080"/>
                <a:ext cx="0" cy="17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209680" y="4075560"/>
                <a:ext cx="328680" cy="35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09680" y="4660200"/>
                <a:ext cx="3286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195640" y="5274720"/>
                <a:ext cx="3286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2734920" y="3570120"/>
              <a:ext cx="328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0640" y="3570120"/>
              <a:ext cx="328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903480" y="3570120"/>
              <a:ext cx="3265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4537080" y="3570120"/>
            <a:ext cx="2160360" cy="2197080"/>
            <a:chOff x="4537080" y="3570120"/>
            <a:chExt cx="2160360" cy="2197080"/>
          </a:xfrm>
        </p:grpSpPr>
        <p:grpSp>
          <p:nvGrpSpPr>
            <p:cNvPr id="335" name=""/>
            <p:cNvGrpSpPr/>
            <p:nvPr/>
          </p:nvGrpSpPr>
          <p:grpSpPr>
            <a:xfrm>
              <a:off x="4537080" y="3997080"/>
              <a:ext cx="2160360" cy="1770120"/>
              <a:chOff x="4537080" y="3997080"/>
              <a:chExt cx="2160360" cy="1770120"/>
            </a:xfrm>
          </p:grpSpPr>
          <p:sp>
            <p:nvSpPr>
              <p:cNvPr id="336" name=""/>
              <p:cNvSpPr/>
              <p:nvPr/>
            </p:nvSpPr>
            <p:spPr>
              <a:xfrm>
                <a:off x="4915800" y="3997080"/>
                <a:ext cx="1770120" cy="17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927680" y="4554000"/>
                <a:ext cx="176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915800" y="5139720"/>
                <a:ext cx="177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478840" y="3997080"/>
                <a:ext cx="0" cy="17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078600" y="3997080"/>
                <a:ext cx="0" cy="17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551120" y="4075560"/>
                <a:ext cx="328680" cy="35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551120" y="4660200"/>
                <a:ext cx="3286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537080" y="5274720"/>
                <a:ext cx="3286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>
              <a:off x="5076720" y="3570120"/>
              <a:ext cx="328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662440" y="3570120"/>
              <a:ext cx="328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245280" y="3570120"/>
              <a:ext cx="3268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336600" y="1087560"/>
            <a:ext cx="17334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969080" y="966960"/>
            <a:ext cx="17582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047000" y="365040"/>
            <a:ext cx="200952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795400" y="3581280"/>
            <a:ext cx="12826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911480" y="3613320"/>
            <a:ext cx="177804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0000"/>
                </a:solidFill>
                <a:latin typeface="Arial"/>
              </a:rPr>
              <a:t>@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18160" y="214200"/>
            <a:ext cx="75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the figures based on your analysis of the data coll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816280" y="2031840"/>
            <a:ext cx="1233360" cy="187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814480" y="2424240"/>
            <a:ext cx="1233720" cy="188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rot="5400000">
            <a:off x="3103920" y="2289600"/>
            <a:ext cx="1233360" cy="187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rot="5400000">
            <a:off x="2534760" y="2278080"/>
            <a:ext cx="1233720" cy="18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4T02:48:19Z</dcterms:created>
  <dc:creator>Ric</dc:creator>
  <dc:description/>
  <dc:language>en-US</dc:language>
  <cp:lastModifiedBy>Ric</cp:lastModifiedBy>
  <dcterms:modified xsi:type="dcterms:W3CDTF">2010-07-24T02:57:23Z</dcterms:modified>
  <cp:revision>5</cp:revision>
  <dc:subject/>
  <dc:title>Slide 1</dc:title>
</cp:coreProperties>
</file>