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9BF1-FA94-4A16-87AB-12B79E40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4 Mathematics &amp; Rob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cap of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p Pupils’ m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your mystery letter symmetr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cap definition of symmetrical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following questions to elicit pupil’s prior knowledge of symme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letter symmetrical? Why? (Anticipated responses: No. The line of symmetry does not divide the figure into 2 equal halv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? (Anticipated responses: Along Column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cap definition of symmetrical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following questions to elicit pupil’s prior knowledge of symme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letter symmetrical? Why? (Anticipated responses: No. The line of symmetry does not divide the figure into 2 equal halv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? (Anticipated responses: Along Column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estigation of symmetrical 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 pupils to recognise that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bot runs acros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n A and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ata collected from respective runs will indicate that the figure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symmetric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black &amp; white sections detected will not be the 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nce, this shows that the figure is not symmetrical as the fig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not be divided into 2 equal halves by the line of symme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sk the following suggested scaffolding questions to elicit pupil’s respon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I were to run my robot across Column A and C, would they be detecting the same area of black sections? (Anticipated responses: No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can I use the data that I have collected to prove that this unknown character is symmetrical? (Anticipated response: We can run our robot along column A and C. If both graphs match exactly, the figure is likely to be symmetrical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estigation of symmetrical 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to pupils that the data collected when the robot run across Column A and C is not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nterpret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sections of black is detected when the robot ran across Row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sections of black is detected when the robot ran across Row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 pupils to conclude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scertain if the unknown letter is symmetrical, the data collected along column A and C should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e reflecting the same about of black and white sections. (i.e. Both line graphs should match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estigation of symmetrical 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 the pupils to recognise that they could also run their robot across Row A and C to ascertain if the unknown character is symmetrical. Ask the following suggested scaffolding questions to elicit pupil’s respon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figure symmetrical? (Anticipated response: Y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? (Anticipated responses: Along Row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an I use my data to show that the figure is symmetrical? Can I run my robot through Column 1 and 3 like what we did for letter A to prove that it is symmetrical?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ticipated responses: No. The data that we have collected will not match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hould have run our robot through Row 1 and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stead! Both graphs that we will collect  show match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estigation of symmetrical 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to pupils that the data collected when the robot run across Row 1 and 3 will not ma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 pupils to conclude that they can also run their robot across Row A and C to ascertain if the unknown character is symmetr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1689120" y="2558880"/>
            <a:ext cx="19591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689120" y="296532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689120" y="340200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2336760" y="25588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002040" y="25588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147680" y="2597040"/>
            <a:ext cx="36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47680" y="302580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131840" y="347652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795320" y="2192400"/>
            <a:ext cx="362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444760" y="2192400"/>
            <a:ext cx="361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121200" y="2192400"/>
            <a:ext cx="363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690560" y="2766600"/>
            <a:ext cx="2032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0" y="139680"/>
            <a:ext cx="914400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954760" y="2570040"/>
            <a:ext cx="1960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954760" y="297648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954760" y="341316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6602400" y="25700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7267680" y="25700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413320" y="2608200"/>
            <a:ext cx="36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413320" y="303696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97480" y="348768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60960" y="2203560"/>
            <a:ext cx="362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710400" y="2203560"/>
            <a:ext cx="361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386480" y="2203560"/>
            <a:ext cx="363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5943600" y="3654000"/>
            <a:ext cx="1955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40743" t="43511" r="27292" b="30245"/>
          <a:stretch/>
        </p:blipFill>
        <p:spPr>
          <a:xfrm>
            <a:off x="576360" y="3951360"/>
            <a:ext cx="4059000" cy="2500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40743" t="43511" r="27292" b="30245"/>
          <a:stretch/>
        </p:blipFill>
        <p:spPr>
          <a:xfrm>
            <a:off x="4957920" y="3952800"/>
            <a:ext cx="3830400" cy="235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28611" t="23567" r="26914" b="10879"/>
          <a:stretch/>
        </p:blipFill>
        <p:spPr>
          <a:xfrm>
            <a:off x="3568680" y="520560"/>
            <a:ext cx="22827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3080" y="1028880"/>
            <a:ext cx="4419720" cy="294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486400" y="1523880"/>
            <a:ext cx="3048120" cy="1447920"/>
          </a:xfrm>
          <a:prstGeom prst="cloudCallout">
            <a:avLst>
              <a:gd name="adj1" fmla="val -91824"/>
              <a:gd name="adj2" fmla="val -53949"/>
            </a:avLst>
          </a:prstGeom>
          <a:solidFill>
            <a:srgbClr val="bbe0e3"/>
          </a:soli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OUR MYSTERY L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581280"/>
            <a:ext cx="3524400" cy="1852560"/>
          </a:xfrm>
          <a:prstGeom prst="cloudCallout">
            <a:avLst>
              <a:gd name="adj1" fmla="val -66037"/>
              <a:gd name="adj2" fmla="val -126435"/>
            </a:avLst>
          </a:prstGeom>
          <a:solidFill>
            <a:srgbClr val="bbe0e3"/>
          </a:soli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OUR MYSTERY LETTER SYMMETRIC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3"/>
          <p:cNvSpPr/>
          <p:nvPr/>
        </p:nvSpPr>
        <p:spPr>
          <a:xfrm>
            <a:off x="22860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00" y="3962520"/>
            <a:ext cx="2878200" cy="2290680"/>
          </a:xfrm>
          <a:prstGeom prst="wedgeRoundRectCallout">
            <a:avLst>
              <a:gd name="adj1" fmla="val 49777"/>
              <a:gd name="adj2" fmla="val -80907"/>
              <a:gd name="adj3" fmla="val 16667"/>
            </a:avLst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7480" y="3687840"/>
            <a:ext cx="1371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84520" y="1473120"/>
          <a:ext cx="47876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473120"/>
                    <a:ext cx="47876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48160" y="1990800"/>
            <a:ext cx="19080" cy="4172040"/>
          </a:xfrm>
          <a:prstGeom prst="line">
            <a:avLst/>
          </a:prstGeom>
          <a:ln w="85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84520" y="1473120"/>
          <a:ext cx="47876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473120"/>
                    <a:ext cx="47876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448160" y="1990800"/>
            <a:ext cx="19080" cy="4172040"/>
          </a:xfrm>
          <a:prstGeom prst="line">
            <a:avLst/>
          </a:prstGeom>
          <a:ln w="85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46320" y="1533600"/>
            <a:ext cx="3380040" cy="5275080"/>
            <a:chOff x="3046320" y="1533600"/>
            <a:chExt cx="3380040" cy="5275080"/>
          </a:xfrm>
        </p:grpSpPr>
        <p:sp>
          <p:nvSpPr>
            <p:cNvPr id="60" name=""/>
            <p:cNvSpPr/>
            <p:nvPr/>
          </p:nvSpPr>
          <p:spPr>
            <a:xfrm>
              <a:off x="3046320" y="1533600"/>
              <a:ext cx="3061080" cy="52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21240" y="2032200"/>
              <a:ext cx="1905120" cy="46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3"/>
          <a:srcRect l="0" t="12459" r="52935" b="0"/>
          <a:stretch/>
        </p:blipFill>
        <p:spPr>
          <a:xfrm>
            <a:off x="2254320" y="2065320"/>
            <a:ext cx="2232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59040" y="2151000"/>
            <a:ext cx="345132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3327480"/>
            <a:ext cx="345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59040" y="4579920"/>
            <a:ext cx="345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2720" y="2160720"/>
            <a:ext cx="0" cy="37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8800" y="2151000"/>
            <a:ext cx="0" cy="374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48040" y="2316240"/>
            <a:ext cx="641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48040" y="3554280"/>
            <a:ext cx="6411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21040" y="4851360"/>
            <a:ext cx="639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7800" y="1401840"/>
            <a:ext cx="639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29000" y="1401840"/>
            <a:ext cx="639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10160" y="1401840"/>
            <a:ext cx="639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76640" y="2552760"/>
            <a:ext cx="27907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ilyUPC"/>
              </a:rPr>
              <a:t>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ilyUPC"/>
              <a:ea typeface="LilyUPC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2459" r="52935" b="0"/>
          <a:stretch/>
        </p:blipFill>
        <p:spPr>
          <a:xfrm>
            <a:off x="2228760" y="1951200"/>
            <a:ext cx="2232000" cy="4327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48160" y="1990800"/>
            <a:ext cx="19080" cy="4172040"/>
          </a:xfrm>
          <a:prstGeom prst="line">
            <a:avLst/>
          </a:prstGeom>
          <a:ln w="85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49585" t="30833" r="34271" b="12499"/>
          <a:stretch/>
        </p:blipFill>
        <p:spPr>
          <a:xfrm>
            <a:off x="4470480" y="2133720"/>
            <a:ext cx="1770120" cy="38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3365280" y="1765440"/>
            <a:ext cx="12600" cy="439416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689120" y="2394000"/>
            <a:ext cx="19591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1689120" y="280044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689120" y="323676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2336760" y="2394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002040" y="2394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147680" y="2432160"/>
            <a:ext cx="363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47680" y="286056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131840" y="331164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795320" y="2027160"/>
            <a:ext cx="3621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444760" y="2027160"/>
            <a:ext cx="361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121200" y="2027160"/>
            <a:ext cx="363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2033640" y="2381400"/>
            <a:ext cx="12600" cy="13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0" y="139680"/>
            <a:ext cx="914400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954760" y="2405160"/>
            <a:ext cx="196056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954760" y="281160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5954760" y="324792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6602400" y="24051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7267680" y="24051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413320" y="2443320"/>
            <a:ext cx="363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413320" y="287172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97480" y="332280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060960" y="2038320"/>
            <a:ext cx="3621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710400" y="2038320"/>
            <a:ext cx="361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386480" y="2038320"/>
            <a:ext cx="36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7559640" y="2373480"/>
            <a:ext cx="12600" cy="13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40719" t="42274" r="27357" b="26581"/>
          <a:stretch/>
        </p:blipFill>
        <p:spPr>
          <a:xfrm>
            <a:off x="439560" y="3865680"/>
            <a:ext cx="3908520" cy="2581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1706" t="32566" r="39922" b="20039"/>
          <a:stretch/>
        </p:blipFill>
        <p:spPr>
          <a:xfrm>
            <a:off x="3581280" y="584280"/>
            <a:ext cx="1943280" cy="2028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54440" y="3835440"/>
            <a:ext cx="42609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62086" t="25169" r="10000" b="30833"/>
          <a:stretch/>
        </p:blipFill>
        <p:spPr>
          <a:xfrm>
            <a:off x="2260440" y="1663560"/>
            <a:ext cx="4527720" cy="446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3682800" y="1727280"/>
            <a:ext cx="12600" cy="439416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05080" y="1714680"/>
            <a:ext cx="12600" cy="439416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689120" y="2558880"/>
            <a:ext cx="19591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689120" y="296532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689120" y="340200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336760" y="25588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002040" y="25588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147680" y="2597040"/>
            <a:ext cx="36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147680" y="302580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131840" y="347652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795320" y="2192400"/>
            <a:ext cx="362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444760" y="2192400"/>
            <a:ext cx="361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121200" y="2192400"/>
            <a:ext cx="363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982880" y="2552760"/>
            <a:ext cx="12600" cy="12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0" y="139680"/>
            <a:ext cx="914400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954760" y="2570040"/>
            <a:ext cx="1960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954760" y="2976480"/>
            <a:ext cx="19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5954760" y="341316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602400" y="25700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7267680" y="25700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413320" y="2608200"/>
            <a:ext cx="36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413320" y="3036960"/>
            <a:ext cx="36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397480" y="3487680"/>
            <a:ext cx="3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060960" y="2203560"/>
            <a:ext cx="362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710400" y="2203560"/>
            <a:ext cx="361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386480" y="2203560"/>
            <a:ext cx="363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7594560" y="261468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40755" t="44932" r="27735" b="30485"/>
          <a:stretch/>
        </p:blipFill>
        <p:spPr>
          <a:xfrm>
            <a:off x="277920" y="4054320"/>
            <a:ext cx="4154400" cy="243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40666" t="44948" r="27463" b="30367"/>
          <a:stretch/>
        </p:blipFill>
        <p:spPr>
          <a:xfrm>
            <a:off x="4667400" y="4051440"/>
            <a:ext cx="4195440" cy="2436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43751" t="33313" r="28750" b="21333"/>
          <a:stretch/>
        </p:blipFill>
        <p:spPr>
          <a:xfrm>
            <a:off x="3645000" y="368280"/>
            <a:ext cx="19508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62086" t="25169" r="10000" b="30833"/>
          <a:stretch/>
        </p:blipFill>
        <p:spPr>
          <a:xfrm>
            <a:off x="2260440" y="1663560"/>
            <a:ext cx="4527720" cy="4461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35360" y="4035600"/>
            <a:ext cx="4006800" cy="6120"/>
          </a:xfrm>
          <a:prstGeom prst="line">
            <a:avLst/>
          </a:prstGeom>
          <a:ln w="85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870280" y="2653920"/>
            <a:ext cx="4114800" cy="1260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641680" y="5549760"/>
            <a:ext cx="4114800" cy="1296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8:17:57Z</dcterms:created>
  <dc:creator>TribalSTUDIOZ</dc:creator>
  <dc:description/>
  <dc:language>en-US</dc:language>
  <cp:lastModifiedBy>juying primary school</cp:lastModifiedBy>
  <dcterms:modified xsi:type="dcterms:W3CDTF">2010-07-28T23:54:15Z</dcterms:modified>
  <cp:revision>235</cp:revision>
  <dc:subject/>
  <dc:title>P4 Robotics and Mathematics</dc:title>
</cp:coreProperties>
</file>