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A45-0E66-4E9B-998C-B8038B80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2D8-7BCD-4BBB-8508-7D254256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CE5-40C6-4E0F-812C-7948B5B4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9943-B7BB-4198-87B1-95D32BDB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5D2-4C32-4655-B1D7-23F118DB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071-3973-4A70-960C-6EC310A6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0A2-2E78-4DFE-8CB2-3CB9C1AD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4723-5099-4060-ABA3-5F9A3157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8C19-025B-4CC9-A33F-591C043E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058-51A8-4407-98EA-01D5C2CF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1C7D-332B-44BD-AD60-E398F022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A43E-A716-416B-89BF-B8C396AB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66B8-E114-429A-BEB4-F26E03FE38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rcRect l="13476" t="0" r="13088" b="9724"/>
          <a:stretch/>
        </p:blipFill>
        <p:spPr>
          <a:xfrm>
            <a:off x="0" y="0"/>
            <a:ext cx="9917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990720" y="1257480"/>
            <a:ext cx="529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 4 Robotics and Mathema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429000" y="600084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me: ____________________________________        Class: 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5"/>
          <p:cNvSpPr/>
          <p:nvPr/>
        </p:nvSpPr>
        <p:spPr>
          <a:xfrm>
            <a:off x="3927600" y="1106640"/>
            <a:ext cx="5594400" cy="27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Robolab Investigator Upload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Screen (PrtSc) on your key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 (Ctrl + V) your graph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Cropping tool to crop your graph to fit inside this 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0" y="139680"/>
            <a:ext cx="9906120" cy="459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 of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5"/>
          <p:cNvSpPr/>
          <p:nvPr/>
        </p:nvSpPr>
        <p:spPr>
          <a:xfrm>
            <a:off x="3716280" y="118440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1328760" y="4198320"/>
            <a:ext cx="45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the robot moves across row/ column* ____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1120680" y="1903320"/>
            <a:ext cx="1903680" cy="16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1120680" y="2475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135080" y="3000240"/>
            <a:ext cx="19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1736640" y="1903320"/>
            <a:ext cx="12960" cy="169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 flipH="1">
            <a:off x="2395440" y="1917720"/>
            <a:ext cx="12960" cy="16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739800" y="2057400"/>
            <a:ext cx="352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714240" y="2590920"/>
            <a:ext cx="351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684360" y="3152880"/>
            <a:ext cx="3524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120960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1841400" y="1539720"/>
            <a:ext cx="351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249696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8"/>
          <p:cNvSpPr/>
          <p:nvPr/>
        </p:nvSpPr>
        <p:spPr>
          <a:xfrm flipH="1">
            <a:off x="634680" y="1933560"/>
            <a:ext cx="2052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9"/>
          <p:cNvSpPr/>
          <p:nvPr/>
        </p:nvSpPr>
        <p:spPr>
          <a:xfrm flipV="1">
            <a:off x="1090440" y="1521000"/>
            <a:ext cx="19623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8"/>
          <p:cNvSpPr/>
          <p:nvPr/>
        </p:nvSpPr>
        <p:spPr>
          <a:xfrm>
            <a:off x="293760" y="814320"/>
            <a:ext cx="3225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cate which row (A,B,C) or column (1,2,3) you are running your robot on using the given arr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351080" y="4500720"/>
          <a:ext cx="7107120" cy="1298520"/>
        </p:xfrm>
        <a:graphic>
          <a:graphicData uri="http://schemas.openxmlformats.org/drawingml/2006/table">
            <a:tbl>
              <a:tblPr/>
              <a:tblGrid>
                <a:gridCol w="846000"/>
                <a:gridCol w="1136520"/>
                <a:gridCol w="5124600"/>
              </a:tblGrid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i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ects area o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112"/>
          <p:cNvSpPr/>
          <p:nvPr/>
        </p:nvSpPr>
        <p:spPr>
          <a:xfrm>
            <a:off x="3850200" y="758880"/>
            <a:ext cx="14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set: 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5"/>
          <p:cNvSpPr/>
          <p:nvPr/>
        </p:nvSpPr>
        <p:spPr>
          <a:xfrm>
            <a:off x="9678960" y="110808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"/>
          <p:cNvSpPr/>
          <p:nvPr/>
        </p:nvSpPr>
        <p:spPr>
          <a:xfrm>
            <a:off x="1292760" y="6056280"/>
            <a:ext cx="362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ossible Characters: 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1"/>
          <p:cNvSpPr/>
          <p:nvPr/>
        </p:nvSpPr>
        <p:spPr>
          <a:xfrm>
            <a:off x="5304960" y="6099120"/>
            <a:ext cx="33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Eliminated Characters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5"/>
          <p:cNvSpPr/>
          <p:nvPr/>
        </p:nvSpPr>
        <p:spPr>
          <a:xfrm>
            <a:off x="3927600" y="1106640"/>
            <a:ext cx="5594400" cy="27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Robolab Investigator Upload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Screen (PrtSc) on your key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 (Ctrl + V) your graph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Cropping tool to crop your graph to fit inside this 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0" y="139680"/>
            <a:ext cx="9906120" cy="459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 of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5"/>
          <p:cNvSpPr/>
          <p:nvPr/>
        </p:nvSpPr>
        <p:spPr>
          <a:xfrm>
            <a:off x="3716280" y="118440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7"/>
          <p:cNvSpPr/>
          <p:nvPr/>
        </p:nvSpPr>
        <p:spPr>
          <a:xfrm>
            <a:off x="1328760" y="4198320"/>
            <a:ext cx="45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the robot moves across row/ column* ____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120680" y="1903320"/>
            <a:ext cx="1903680" cy="16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1120680" y="2475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1135080" y="3000240"/>
            <a:ext cx="19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1736640" y="1903320"/>
            <a:ext cx="12960" cy="169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 flipH="1">
            <a:off x="2395440" y="1917720"/>
            <a:ext cx="12960" cy="16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739800" y="2057400"/>
            <a:ext cx="352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714240" y="2590920"/>
            <a:ext cx="351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684360" y="3152880"/>
            <a:ext cx="3524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120960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1841400" y="1539720"/>
            <a:ext cx="351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49696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 flipH="1">
            <a:off x="634680" y="1933560"/>
            <a:ext cx="2052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9"/>
          <p:cNvSpPr/>
          <p:nvPr/>
        </p:nvSpPr>
        <p:spPr>
          <a:xfrm flipV="1">
            <a:off x="1090440" y="1521000"/>
            <a:ext cx="19623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8"/>
          <p:cNvSpPr/>
          <p:nvPr/>
        </p:nvSpPr>
        <p:spPr>
          <a:xfrm>
            <a:off x="293760" y="814320"/>
            <a:ext cx="3225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cate which row (A,B,C) or column (1,2,3) you are running your robot on using the given arr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351080" y="4500720"/>
          <a:ext cx="7107120" cy="1298520"/>
        </p:xfrm>
        <a:graphic>
          <a:graphicData uri="http://schemas.openxmlformats.org/drawingml/2006/table">
            <a:tbl>
              <a:tblPr/>
              <a:tblGrid>
                <a:gridCol w="846000"/>
                <a:gridCol w="1136520"/>
                <a:gridCol w="5124600"/>
              </a:tblGrid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i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ects area o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Rectangle 112"/>
          <p:cNvSpPr/>
          <p:nvPr/>
        </p:nvSpPr>
        <p:spPr>
          <a:xfrm>
            <a:off x="3850200" y="758880"/>
            <a:ext cx="14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set: 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5"/>
          <p:cNvSpPr/>
          <p:nvPr/>
        </p:nvSpPr>
        <p:spPr>
          <a:xfrm>
            <a:off x="9678960" y="110808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1292760" y="6056280"/>
            <a:ext cx="362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ossible Characters: 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5304960" y="6099120"/>
            <a:ext cx="33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Eliminated Characters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5"/>
          <p:cNvSpPr/>
          <p:nvPr/>
        </p:nvSpPr>
        <p:spPr>
          <a:xfrm>
            <a:off x="3927600" y="1106640"/>
            <a:ext cx="5594400" cy="27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Robolab Investigator Upload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Screen (PrtSc) on your key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 (Ctrl + V) your graph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Cropping tool to crop your graph to fit inside this 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0" y="139680"/>
            <a:ext cx="9906120" cy="459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 of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5"/>
          <p:cNvSpPr/>
          <p:nvPr/>
        </p:nvSpPr>
        <p:spPr>
          <a:xfrm>
            <a:off x="3716280" y="118440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7"/>
          <p:cNvSpPr/>
          <p:nvPr/>
        </p:nvSpPr>
        <p:spPr>
          <a:xfrm>
            <a:off x="1328760" y="4198320"/>
            <a:ext cx="45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the robot moves across row/ column* ____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120680" y="1903320"/>
            <a:ext cx="1903680" cy="16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"/>
          <p:cNvSpPr/>
          <p:nvPr/>
        </p:nvSpPr>
        <p:spPr>
          <a:xfrm>
            <a:off x="1120680" y="2475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"/>
          <p:cNvSpPr/>
          <p:nvPr/>
        </p:nvSpPr>
        <p:spPr>
          <a:xfrm>
            <a:off x="1135080" y="3000240"/>
            <a:ext cx="19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6"/>
          <p:cNvSpPr/>
          <p:nvPr/>
        </p:nvSpPr>
        <p:spPr>
          <a:xfrm>
            <a:off x="1736640" y="1903320"/>
            <a:ext cx="12960" cy="169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7"/>
          <p:cNvSpPr/>
          <p:nvPr/>
        </p:nvSpPr>
        <p:spPr>
          <a:xfrm flipH="1">
            <a:off x="2395440" y="1917720"/>
            <a:ext cx="12960" cy="16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739800" y="2057400"/>
            <a:ext cx="352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714240" y="2590920"/>
            <a:ext cx="351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684360" y="3152880"/>
            <a:ext cx="3524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120960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1841400" y="1539720"/>
            <a:ext cx="351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249696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8"/>
          <p:cNvSpPr/>
          <p:nvPr/>
        </p:nvSpPr>
        <p:spPr>
          <a:xfrm flipH="1">
            <a:off x="634680" y="1933560"/>
            <a:ext cx="2052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9"/>
          <p:cNvSpPr/>
          <p:nvPr/>
        </p:nvSpPr>
        <p:spPr>
          <a:xfrm flipV="1">
            <a:off x="1090440" y="1521000"/>
            <a:ext cx="19623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8"/>
          <p:cNvSpPr/>
          <p:nvPr/>
        </p:nvSpPr>
        <p:spPr>
          <a:xfrm>
            <a:off x="293760" y="814320"/>
            <a:ext cx="3225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cate which row (A,B,C) or column (1,2,3) you are running your robot on using the given arr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351080" y="4500720"/>
          <a:ext cx="7107120" cy="1298520"/>
        </p:xfrm>
        <a:graphic>
          <a:graphicData uri="http://schemas.openxmlformats.org/drawingml/2006/table">
            <a:tbl>
              <a:tblPr/>
              <a:tblGrid>
                <a:gridCol w="846000"/>
                <a:gridCol w="1136520"/>
                <a:gridCol w="5124600"/>
              </a:tblGrid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i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ects area o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112"/>
          <p:cNvSpPr/>
          <p:nvPr/>
        </p:nvSpPr>
        <p:spPr>
          <a:xfrm>
            <a:off x="3850200" y="758880"/>
            <a:ext cx="14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set: 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5"/>
          <p:cNvSpPr/>
          <p:nvPr/>
        </p:nvSpPr>
        <p:spPr>
          <a:xfrm>
            <a:off x="9678960" y="110808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1292760" y="6056280"/>
            <a:ext cx="362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ossible Characters: 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5304960" y="6099120"/>
            <a:ext cx="33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Eliminated Characters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5"/>
          <p:cNvSpPr/>
          <p:nvPr/>
        </p:nvSpPr>
        <p:spPr>
          <a:xfrm>
            <a:off x="3927600" y="1106640"/>
            <a:ext cx="5594400" cy="27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Robolab Investigator Upload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Screen (PrtSc) on your key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 (Ctrl + V) your graph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Cropping tool to crop your graph to fit inside this 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0" y="139680"/>
            <a:ext cx="9906120" cy="459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 of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5"/>
          <p:cNvSpPr/>
          <p:nvPr/>
        </p:nvSpPr>
        <p:spPr>
          <a:xfrm>
            <a:off x="3716280" y="118440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7"/>
          <p:cNvSpPr/>
          <p:nvPr/>
        </p:nvSpPr>
        <p:spPr>
          <a:xfrm>
            <a:off x="1328760" y="4198320"/>
            <a:ext cx="45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the robot moves across row/ column* ____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1120680" y="1903320"/>
            <a:ext cx="1903680" cy="16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"/>
          <p:cNvSpPr/>
          <p:nvPr/>
        </p:nvSpPr>
        <p:spPr>
          <a:xfrm>
            <a:off x="1120680" y="2475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5"/>
          <p:cNvSpPr/>
          <p:nvPr/>
        </p:nvSpPr>
        <p:spPr>
          <a:xfrm>
            <a:off x="1135080" y="3000240"/>
            <a:ext cx="19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6"/>
          <p:cNvSpPr/>
          <p:nvPr/>
        </p:nvSpPr>
        <p:spPr>
          <a:xfrm>
            <a:off x="1736640" y="1903320"/>
            <a:ext cx="12960" cy="169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7"/>
          <p:cNvSpPr/>
          <p:nvPr/>
        </p:nvSpPr>
        <p:spPr>
          <a:xfrm flipH="1">
            <a:off x="2395440" y="1917720"/>
            <a:ext cx="12960" cy="16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739800" y="2057400"/>
            <a:ext cx="352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714240" y="2590920"/>
            <a:ext cx="351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684360" y="3152880"/>
            <a:ext cx="3524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120960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1841400" y="1539720"/>
            <a:ext cx="351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249696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8"/>
          <p:cNvSpPr/>
          <p:nvPr/>
        </p:nvSpPr>
        <p:spPr>
          <a:xfrm flipH="1">
            <a:off x="634680" y="1933560"/>
            <a:ext cx="2052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9"/>
          <p:cNvSpPr/>
          <p:nvPr/>
        </p:nvSpPr>
        <p:spPr>
          <a:xfrm flipV="1">
            <a:off x="1090440" y="1521000"/>
            <a:ext cx="19623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8"/>
          <p:cNvSpPr/>
          <p:nvPr/>
        </p:nvSpPr>
        <p:spPr>
          <a:xfrm>
            <a:off x="293760" y="814320"/>
            <a:ext cx="3225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cate which row (A,B,C) or column (1,2,3) you are running your robot on using the given arr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351080" y="4500720"/>
          <a:ext cx="7107120" cy="1298520"/>
        </p:xfrm>
        <a:graphic>
          <a:graphicData uri="http://schemas.openxmlformats.org/drawingml/2006/table">
            <a:tbl>
              <a:tblPr/>
              <a:tblGrid>
                <a:gridCol w="846000"/>
                <a:gridCol w="1136520"/>
                <a:gridCol w="5124600"/>
              </a:tblGrid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i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ects area o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Rectangle 112"/>
          <p:cNvSpPr/>
          <p:nvPr/>
        </p:nvSpPr>
        <p:spPr>
          <a:xfrm>
            <a:off x="3850200" y="758880"/>
            <a:ext cx="14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set: 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5"/>
          <p:cNvSpPr/>
          <p:nvPr/>
        </p:nvSpPr>
        <p:spPr>
          <a:xfrm>
            <a:off x="9678960" y="110808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1"/>
          <p:cNvSpPr/>
          <p:nvPr/>
        </p:nvSpPr>
        <p:spPr>
          <a:xfrm>
            <a:off x="1292760" y="6056280"/>
            <a:ext cx="362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ossible Characters: 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1"/>
          <p:cNvSpPr/>
          <p:nvPr/>
        </p:nvSpPr>
        <p:spPr>
          <a:xfrm>
            <a:off x="5304960" y="6099120"/>
            <a:ext cx="33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Eliminated Characters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5"/>
          <p:cNvSpPr/>
          <p:nvPr/>
        </p:nvSpPr>
        <p:spPr>
          <a:xfrm>
            <a:off x="3927600" y="1106640"/>
            <a:ext cx="5594400" cy="27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Robolab Investigator Upload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Screen (PrtSc) on your key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 (Ctrl + V) your graph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Cropping tool to crop your graph to fit inside this 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0" y="139680"/>
            <a:ext cx="9906120" cy="459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 of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5"/>
          <p:cNvSpPr/>
          <p:nvPr/>
        </p:nvSpPr>
        <p:spPr>
          <a:xfrm>
            <a:off x="3716280" y="118440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7"/>
          <p:cNvSpPr/>
          <p:nvPr/>
        </p:nvSpPr>
        <p:spPr>
          <a:xfrm>
            <a:off x="1328760" y="4198320"/>
            <a:ext cx="45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the robot moves across row/ column* ____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1120680" y="1903320"/>
            <a:ext cx="1903680" cy="16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"/>
          <p:cNvSpPr/>
          <p:nvPr/>
        </p:nvSpPr>
        <p:spPr>
          <a:xfrm>
            <a:off x="1120680" y="2475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1135080" y="3000240"/>
            <a:ext cx="19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6"/>
          <p:cNvSpPr/>
          <p:nvPr/>
        </p:nvSpPr>
        <p:spPr>
          <a:xfrm>
            <a:off x="1736640" y="1903320"/>
            <a:ext cx="12960" cy="169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7"/>
          <p:cNvSpPr/>
          <p:nvPr/>
        </p:nvSpPr>
        <p:spPr>
          <a:xfrm flipH="1">
            <a:off x="2395440" y="1917720"/>
            <a:ext cx="12960" cy="16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739800" y="2057400"/>
            <a:ext cx="352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714240" y="2590920"/>
            <a:ext cx="351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684360" y="3152880"/>
            <a:ext cx="3524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120960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1841400" y="1539720"/>
            <a:ext cx="351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249696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8"/>
          <p:cNvSpPr/>
          <p:nvPr/>
        </p:nvSpPr>
        <p:spPr>
          <a:xfrm flipH="1">
            <a:off x="634680" y="1933560"/>
            <a:ext cx="2052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9"/>
          <p:cNvSpPr/>
          <p:nvPr/>
        </p:nvSpPr>
        <p:spPr>
          <a:xfrm flipV="1">
            <a:off x="1090440" y="1521000"/>
            <a:ext cx="19623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8"/>
          <p:cNvSpPr/>
          <p:nvPr/>
        </p:nvSpPr>
        <p:spPr>
          <a:xfrm>
            <a:off x="293760" y="814320"/>
            <a:ext cx="3225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cate which row (A,B,C) or column (1,2,3) you are running your robot on using the given arr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351080" y="4500720"/>
          <a:ext cx="7107120" cy="1298520"/>
        </p:xfrm>
        <a:graphic>
          <a:graphicData uri="http://schemas.openxmlformats.org/drawingml/2006/table">
            <a:tbl>
              <a:tblPr/>
              <a:tblGrid>
                <a:gridCol w="846000"/>
                <a:gridCol w="1136520"/>
                <a:gridCol w="5124600"/>
              </a:tblGrid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i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ects area o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Rectangle 112"/>
          <p:cNvSpPr/>
          <p:nvPr/>
        </p:nvSpPr>
        <p:spPr>
          <a:xfrm>
            <a:off x="3850200" y="758880"/>
            <a:ext cx="14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set: 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5"/>
          <p:cNvSpPr/>
          <p:nvPr/>
        </p:nvSpPr>
        <p:spPr>
          <a:xfrm>
            <a:off x="9678960" y="110808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1"/>
          <p:cNvSpPr/>
          <p:nvPr/>
        </p:nvSpPr>
        <p:spPr>
          <a:xfrm>
            <a:off x="1292760" y="6056280"/>
            <a:ext cx="362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ossible Characters: 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1"/>
          <p:cNvSpPr/>
          <p:nvPr/>
        </p:nvSpPr>
        <p:spPr>
          <a:xfrm>
            <a:off x="5304960" y="6099120"/>
            <a:ext cx="33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Eliminated Characters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1830240" y="907920"/>
            <a:ext cx="212256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"/>
          <p:cNvSpPr/>
          <p:nvPr/>
        </p:nvSpPr>
        <p:spPr>
          <a:xfrm>
            <a:off x="1830240" y="1314360"/>
            <a:ext cx="212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>
            <a:off x="1830240" y="1751040"/>
            <a:ext cx="212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2532240" y="90792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3252960" y="90792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1243080" y="946080"/>
            <a:ext cx="393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1243080" y="1374840"/>
            <a:ext cx="39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1225440" y="1825560"/>
            <a:ext cx="3938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1944720" y="541440"/>
            <a:ext cx="3920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2647800" y="541440"/>
            <a:ext cx="39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3381480" y="541440"/>
            <a:ext cx="3934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5"/>
          <p:cNvSpPr/>
          <p:nvPr/>
        </p:nvSpPr>
        <p:spPr>
          <a:xfrm>
            <a:off x="768240" y="2324160"/>
            <a:ext cx="4002120" cy="243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8"/>
          <p:cNvSpPr/>
          <p:nvPr/>
        </p:nvSpPr>
        <p:spPr>
          <a:xfrm>
            <a:off x="1635120" y="824040"/>
            <a:ext cx="245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9"/>
          <p:cNvSpPr/>
          <p:nvPr/>
        </p:nvSpPr>
        <p:spPr>
          <a:xfrm>
            <a:off x="1225440" y="990720"/>
            <a:ext cx="0" cy="10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3"/>
          <p:cNvSpPr/>
          <p:nvPr/>
        </p:nvSpPr>
        <p:spPr>
          <a:xfrm>
            <a:off x="810720" y="500544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Your Predi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5175360" y="2336760"/>
            <a:ext cx="4363920" cy="245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7"/>
          <p:cNvSpPr/>
          <p:nvPr/>
        </p:nvSpPr>
        <p:spPr>
          <a:xfrm>
            <a:off x="803160" y="5272200"/>
            <a:ext cx="493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igure Symmetrical? Explain wh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0" y="139680"/>
            <a:ext cx="9906120" cy="459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 of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5"/>
          <p:cNvSpPr/>
          <p:nvPr/>
        </p:nvSpPr>
        <p:spPr>
          <a:xfrm>
            <a:off x="741240" y="5707080"/>
            <a:ext cx="8764560" cy="81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6451560" y="919080"/>
            <a:ext cx="212256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"/>
          <p:cNvSpPr/>
          <p:nvPr/>
        </p:nvSpPr>
        <p:spPr>
          <a:xfrm>
            <a:off x="6451560" y="1325520"/>
            <a:ext cx="212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6451560" y="1762200"/>
            <a:ext cx="212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"/>
          <p:cNvSpPr/>
          <p:nvPr/>
        </p:nvSpPr>
        <p:spPr>
          <a:xfrm>
            <a:off x="7153200" y="9190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7"/>
          <p:cNvSpPr/>
          <p:nvPr/>
        </p:nvSpPr>
        <p:spPr>
          <a:xfrm>
            <a:off x="7873920" y="9190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5864400" y="957240"/>
            <a:ext cx="393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5864400" y="1386000"/>
            <a:ext cx="39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5846760" y="1836720"/>
            <a:ext cx="3938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6566040" y="552600"/>
            <a:ext cx="3920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7269120" y="552600"/>
            <a:ext cx="3920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8002440" y="552600"/>
            <a:ext cx="3938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8"/>
          <p:cNvSpPr/>
          <p:nvPr/>
        </p:nvSpPr>
        <p:spPr>
          <a:xfrm>
            <a:off x="6256440" y="835200"/>
            <a:ext cx="245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9"/>
          <p:cNvSpPr/>
          <p:nvPr/>
        </p:nvSpPr>
        <p:spPr>
          <a:xfrm>
            <a:off x="5846760" y="1001880"/>
            <a:ext cx="0" cy="10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1830240" y="907920"/>
            <a:ext cx="212256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1830240" y="1314360"/>
            <a:ext cx="212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1830240" y="1751040"/>
            <a:ext cx="212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2532240" y="90792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7"/>
          <p:cNvSpPr/>
          <p:nvPr/>
        </p:nvSpPr>
        <p:spPr>
          <a:xfrm>
            <a:off x="3252960" y="90792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1243080" y="946080"/>
            <a:ext cx="393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1243080" y="1374840"/>
            <a:ext cx="39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1225440" y="1825560"/>
            <a:ext cx="3938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1944720" y="541440"/>
            <a:ext cx="3920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2"/>
          <p:cNvSpPr/>
          <p:nvPr/>
        </p:nvSpPr>
        <p:spPr>
          <a:xfrm>
            <a:off x="2647800" y="541440"/>
            <a:ext cx="39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3"/>
          <p:cNvSpPr/>
          <p:nvPr/>
        </p:nvSpPr>
        <p:spPr>
          <a:xfrm>
            <a:off x="3381480" y="541440"/>
            <a:ext cx="3934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5"/>
          <p:cNvSpPr/>
          <p:nvPr/>
        </p:nvSpPr>
        <p:spPr>
          <a:xfrm>
            <a:off x="768240" y="2324160"/>
            <a:ext cx="4002120" cy="243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8"/>
          <p:cNvSpPr/>
          <p:nvPr/>
        </p:nvSpPr>
        <p:spPr>
          <a:xfrm>
            <a:off x="1635120" y="824040"/>
            <a:ext cx="245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9"/>
          <p:cNvSpPr/>
          <p:nvPr/>
        </p:nvSpPr>
        <p:spPr>
          <a:xfrm>
            <a:off x="1225440" y="990720"/>
            <a:ext cx="0" cy="10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3"/>
          <p:cNvSpPr/>
          <p:nvPr/>
        </p:nvSpPr>
        <p:spPr>
          <a:xfrm>
            <a:off x="810720" y="500544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Your Predi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5"/>
          <p:cNvSpPr/>
          <p:nvPr/>
        </p:nvSpPr>
        <p:spPr>
          <a:xfrm>
            <a:off x="5175360" y="2336760"/>
            <a:ext cx="4363920" cy="245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803160" y="5272200"/>
            <a:ext cx="493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igure Symmetrical? Explain wh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0" y="139680"/>
            <a:ext cx="9906120" cy="459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 of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741240" y="5707080"/>
            <a:ext cx="8764560" cy="81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6451560" y="919080"/>
            <a:ext cx="212256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4"/>
          <p:cNvSpPr/>
          <p:nvPr/>
        </p:nvSpPr>
        <p:spPr>
          <a:xfrm>
            <a:off x="6451560" y="1325520"/>
            <a:ext cx="212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5"/>
          <p:cNvSpPr/>
          <p:nvPr/>
        </p:nvSpPr>
        <p:spPr>
          <a:xfrm>
            <a:off x="6451560" y="1762200"/>
            <a:ext cx="212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7153200" y="9190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7"/>
          <p:cNvSpPr/>
          <p:nvPr/>
        </p:nvSpPr>
        <p:spPr>
          <a:xfrm>
            <a:off x="7873920" y="9190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5864400" y="957240"/>
            <a:ext cx="393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5864400" y="1386000"/>
            <a:ext cx="393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"/>
          <p:cNvSpPr/>
          <p:nvPr/>
        </p:nvSpPr>
        <p:spPr>
          <a:xfrm>
            <a:off x="5846760" y="1836720"/>
            <a:ext cx="3938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1"/>
          <p:cNvSpPr/>
          <p:nvPr/>
        </p:nvSpPr>
        <p:spPr>
          <a:xfrm>
            <a:off x="6566040" y="552600"/>
            <a:ext cx="3920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2"/>
          <p:cNvSpPr/>
          <p:nvPr/>
        </p:nvSpPr>
        <p:spPr>
          <a:xfrm>
            <a:off x="7269120" y="552600"/>
            <a:ext cx="3920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3"/>
          <p:cNvSpPr/>
          <p:nvPr/>
        </p:nvSpPr>
        <p:spPr>
          <a:xfrm>
            <a:off x="8002440" y="552600"/>
            <a:ext cx="3938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8"/>
          <p:cNvSpPr/>
          <p:nvPr/>
        </p:nvSpPr>
        <p:spPr>
          <a:xfrm>
            <a:off x="6256440" y="835200"/>
            <a:ext cx="245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9"/>
          <p:cNvSpPr/>
          <p:nvPr/>
        </p:nvSpPr>
        <p:spPr>
          <a:xfrm>
            <a:off x="5846760" y="1001880"/>
            <a:ext cx="0" cy="10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5"/>
          <p:cNvSpPr/>
          <p:nvPr/>
        </p:nvSpPr>
        <p:spPr>
          <a:xfrm>
            <a:off x="3927600" y="1106640"/>
            <a:ext cx="5594400" cy="27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912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6"/>
          <p:cNvSpPr/>
          <p:nvPr/>
        </p:nvSpPr>
        <p:spPr>
          <a:xfrm>
            <a:off x="0" y="139680"/>
            <a:ext cx="9906120" cy="459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 of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5"/>
          <p:cNvSpPr/>
          <p:nvPr/>
        </p:nvSpPr>
        <p:spPr>
          <a:xfrm>
            <a:off x="6815160" y="1108080"/>
            <a:ext cx="1728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1328760" y="4198320"/>
            <a:ext cx="45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the robot moves across row/ column* ____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120680" y="1903320"/>
            <a:ext cx="1903680" cy="16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1120680" y="2475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1135080" y="3000240"/>
            <a:ext cx="19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1736640" y="1903320"/>
            <a:ext cx="12960" cy="169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 flipH="1">
            <a:off x="2395440" y="1917720"/>
            <a:ext cx="12960" cy="16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739800" y="2057400"/>
            <a:ext cx="352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4240" y="2590920"/>
            <a:ext cx="351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684360" y="3152880"/>
            <a:ext cx="3524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120960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841400" y="1539720"/>
            <a:ext cx="351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49696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H="1">
            <a:off x="2031840" y="1933560"/>
            <a:ext cx="2088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 flipV="1">
            <a:off x="1090440" y="1521000"/>
            <a:ext cx="19623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8"/>
          <p:cNvSpPr/>
          <p:nvPr/>
        </p:nvSpPr>
        <p:spPr>
          <a:xfrm>
            <a:off x="357120" y="776160"/>
            <a:ext cx="322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cate which row (A,B,C) or column (1,2,3) you are running your robot on using the given arr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351080" y="4500720"/>
          <a:ext cx="7107120" cy="1298520"/>
        </p:xfrm>
        <a:graphic>
          <a:graphicData uri="http://schemas.openxmlformats.org/drawingml/2006/table">
            <a:tbl>
              <a:tblPr/>
              <a:tblGrid>
                <a:gridCol w="846000"/>
                <a:gridCol w="1136520"/>
                <a:gridCol w="5124600"/>
              </a:tblGrid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i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ects area o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12"/>
          <p:cNvSpPr/>
          <p:nvPr/>
        </p:nvSpPr>
        <p:spPr>
          <a:xfrm>
            <a:off x="3850200" y="758880"/>
            <a:ext cx="14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set: 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9678960" y="110808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1292760" y="6056280"/>
            <a:ext cx="362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ossible Characters: 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5304960" y="6099120"/>
            <a:ext cx="33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Eliminated Characters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5"/>
          <p:cNvSpPr/>
          <p:nvPr/>
        </p:nvSpPr>
        <p:spPr>
          <a:xfrm>
            <a:off x="3927600" y="1106640"/>
            <a:ext cx="5594400" cy="27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912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0" y="139680"/>
            <a:ext cx="9906120" cy="459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 of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5"/>
          <p:cNvSpPr/>
          <p:nvPr/>
        </p:nvSpPr>
        <p:spPr>
          <a:xfrm>
            <a:off x="3716280" y="118440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7"/>
          <p:cNvSpPr/>
          <p:nvPr/>
        </p:nvSpPr>
        <p:spPr>
          <a:xfrm>
            <a:off x="1328760" y="4198320"/>
            <a:ext cx="45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the robot moves across row/ column* ____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120680" y="1903320"/>
            <a:ext cx="1903680" cy="16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1120680" y="2475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1135080" y="3000240"/>
            <a:ext cx="19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1736640" y="1903320"/>
            <a:ext cx="12960" cy="169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 flipH="1">
            <a:off x="2395440" y="1917720"/>
            <a:ext cx="12960" cy="16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739800" y="2057400"/>
            <a:ext cx="352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714240" y="2590920"/>
            <a:ext cx="351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684360" y="3152880"/>
            <a:ext cx="3524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20960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841400" y="1539720"/>
            <a:ext cx="351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249696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 flipH="1">
            <a:off x="634680" y="1933560"/>
            <a:ext cx="2052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9"/>
          <p:cNvSpPr/>
          <p:nvPr/>
        </p:nvSpPr>
        <p:spPr>
          <a:xfrm flipV="1">
            <a:off x="1090440" y="1521000"/>
            <a:ext cx="19623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8"/>
          <p:cNvSpPr/>
          <p:nvPr/>
        </p:nvSpPr>
        <p:spPr>
          <a:xfrm>
            <a:off x="293760" y="814320"/>
            <a:ext cx="3225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cate which row (A,B,C) or column (1,2,3) you are running your robot on using the given arr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351080" y="4500720"/>
          <a:ext cx="7107120" cy="1298520"/>
        </p:xfrm>
        <a:graphic>
          <a:graphicData uri="http://schemas.openxmlformats.org/drawingml/2006/table">
            <a:tbl>
              <a:tblPr/>
              <a:tblGrid>
                <a:gridCol w="846000"/>
                <a:gridCol w="1136520"/>
                <a:gridCol w="5124600"/>
              </a:tblGrid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i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ects area o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112"/>
          <p:cNvSpPr/>
          <p:nvPr/>
        </p:nvSpPr>
        <p:spPr>
          <a:xfrm>
            <a:off x="3850200" y="758880"/>
            <a:ext cx="14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set: 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5"/>
          <p:cNvSpPr/>
          <p:nvPr/>
        </p:nvSpPr>
        <p:spPr>
          <a:xfrm>
            <a:off x="9678960" y="110808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1292760" y="6056280"/>
            <a:ext cx="362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ossible Characters: 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5304960" y="6099120"/>
            <a:ext cx="33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Eliminated Characters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5"/>
          <p:cNvSpPr/>
          <p:nvPr/>
        </p:nvSpPr>
        <p:spPr>
          <a:xfrm>
            <a:off x="3927600" y="1106640"/>
            <a:ext cx="5594400" cy="27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912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912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0" y="139680"/>
            <a:ext cx="9906120" cy="459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 of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3716280" y="118440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1328760" y="4198320"/>
            <a:ext cx="45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the robot moves across row/ column* ____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120680" y="1903320"/>
            <a:ext cx="1903680" cy="16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120680" y="2475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1135080" y="3000240"/>
            <a:ext cx="19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1736640" y="1903320"/>
            <a:ext cx="12960" cy="169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 flipH="1">
            <a:off x="2395440" y="1917720"/>
            <a:ext cx="12960" cy="16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39800" y="2057400"/>
            <a:ext cx="352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714240" y="2590920"/>
            <a:ext cx="351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684360" y="3152880"/>
            <a:ext cx="3524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120960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841400" y="1539720"/>
            <a:ext cx="351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49696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 flipH="1">
            <a:off x="634680" y="1933560"/>
            <a:ext cx="2052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 flipV="1">
            <a:off x="1090440" y="1521000"/>
            <a:ext cx="19623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8"/>
          <p:cNvSpPr/>
          <p:nvPr/>
        </p:nvSpPr>
        <p:spPr>
          <a:xfrm>
            <a:off x="293760" y="814320"/>
            <a:ext cx="3225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cate which row (A,B,C) or column (1,2,3) you are running your robot on using the given arr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351080" y="4500720"/>
          <a:ext cx="7107120" cy="1298520"/>
        </p:xfrm>
        <a:graphic>
          <a:graphicData uri="http://schemas.openxmlformats.org/drawingml/2006/table">
            <a:tbl>
              <a:tblPr/>
              <a:tblGrid>
                <a:gridCol w="846000"/>
                <a:gridCol w="1136520"/>
                <a:gridCol w="5124600"/>
              </a:tblGrid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i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ects area o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112"/>
          <p:cNvSpPr/>
          <p:nvPr/>
        </p:nvSpPr>
        <p:spPr>
          <a:xfrm>
            <a:off x="3850200" y="758880"/>
            <a:ext cx="14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set: 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9678960" y="110808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1292760" y="6056280"/>
            <a:ext cx="362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ossible Characters: 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304960" y="6099120"/>
            <a:ext cx="33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Eliminated Characters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5"/>
          <p:cNvSpPr/>
          <p:nvPr/>
        </p:nvSpPr>
        <p:spPr>
          <a:xfrm>
            <a:off x="3927600" y="1106640"/>
            <a:ext cx="5594400" cy="27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Robolab Investigator Upload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Screen (PrtSc) on your key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 (Ctrl + V) your graph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Cropping tool to crop your graph to fit inside this 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0" y="139680"/>
            <a:ext cx="9906120" cy="459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 of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5"/>
          <p:cNvSpPr/>
          <p:nvPr/>
        </p:nvSpPr>
        <p:spPr>
          <a:xfrm>
            <a:off x="3716280" y="118440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7"/>
          <p:cNvSpPr/>
          <p:nvPr/>
        </p:nvSpPr>
        <p:spPr>
          <a:xfrm>
            <a:off x="1328760" y="4198320"/>
            <a:ext cx="45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the robot moves across row/ column* ____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120680" y="1903320"/>
            <a:ext cx="1903680" cy="16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1120680" y="2475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1135080" y="3000240"/>
            <a:ext cx="19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1736640" y="1903320"/>
            <a:ext cx="12960" cy="169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H="1">
            <a:off x="2395440" y="1917720"/>
            <a:ext cx="12960" cy="16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739800" y="2057400"/>
            <a:ext cx="352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714240" y="2590920"/>
            <a:ext cx="351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684360" y="3152880"/>
            <a:ext cx="3524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20960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1841400" y="1539720"/>
            <a:ext cx="351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249696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8"/>
          <p:cNvSpPr/>
          <p:nvPr/>
        </p:nvSpPr>
        <p:spPr>
          <a:xfrm flipH="1">
            <a:off x="634680" y="1933560"/>
            <a:ext cx="2052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9"/>
          <p:cNvSpPr/>
          <p:nvPr/>
        </p:nvSpPr>
        <p:spPr>
          <a:xfrm flipV="1">
            <a:off x="1090440" y="1521000"/>
            <a:ext cx="19623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8"/>
          <p:cNvSpPr/>
          <p:nvPr/>
        </p:nvSpPr>
        <p:spPr>
          <a:xfrm>
            <a:off x="293760" y="814320"/>
            <a:ext cx="3225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cate which row (A,B,C) or column (1,2,3) you are running your robot on using the given arr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51080" y="4500720"/>
          <a:ext cx="7107120" cy="1298520"/>
        </p:xfrm>
        <a:graphic>
          <a:graphicData uri="http://schemas.openxmlformats.org/drawingml/2006/table">
            <a:tbl>
              <a:tblPr/>
              <a:tblGrid>
                <a:gridCol w="846000"/>
                <a:gridCol w="1136520"/>
                <a:gridCol w="5124600"/>
              </a:tblGrid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i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ects area o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Rectangle 112"/>
          <p:cNvSpPr/>
          <p:nvPr/>
        </p:nvSpPr>
        <p:spPr>
          <a:xfrm>
            <a:off x="3850200" y="758880"/>
            <a:ext cx="14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set: 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5"/>
          <p:cNvSpPr/>
          <p:nvPr/>
        </p:nvSpPr>
        <p:spPr>
          <a:xfrm>
            <a:off x="9678960" y="110808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1292760" y="6056280"/>
            <a:ext cx="362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ossible Characters: 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5304960" y="6099120"/>
            <a:ext cx="33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Eliminated Characters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5"/>
          <p:cNvSpPr/>
          <p:nvPr/>
        </p:nvSpPr>
        <p:spPr>
          <a:xfrm>
            <a:off x="3927600" y="1106640"/>
            <a:ext cx="5594400" cy="27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Robolab Investigator Upload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Screen (PrtSc) on your key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 (Ctrl + V) your graph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Cropping tool to crop your graph to fit inside this 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0" y="139680"/>
            <a:ext cx="9906120" cy="459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 of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3716280" y="118440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7"/>
          <p:cNvSpPr/>
          <p:nvPr/>
        </p:nvSpPr>
        <p:spPr>
          <a:xfrm>
            <a:off x="1328760" y="4198320"/>
            <a:ext cx="45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the robot moves across row/ column* ____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20680" y="1903320"/>
            <a:ext cx="1903680" cy="16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1120680" y="2475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1135080" y="3000240"/>
            <a:ext cx="19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1736640" y="1903320"/>
            <a:ext cx="12960" cy="169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 flipH="1">
            <a:off x="2395440" y="1917720"/>
            <a:ext cx="12960" cy="16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739800" y="2057400"/>
            <a:ext cx="352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714240" y="2590920"/>
            <a:ext cx="351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684360" y="3152880"/>
            <a:ext cx="3524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20960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1841400" y="1539720"/>
            <a:ext cx="351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249696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 flipH="1">
            <a:off x="634680" y="1933560"/>
            <a:ext cx="2052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V="1">
            <a:off x="1090440" y="1521000"/>
            <a:ext cx="19623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8"/>
          <p:cNvSpPr/>
          <p:nvPr/>
        </p:nvSpPr>
        <p:spPr>
          <a:xfrm>
            <a:off x="293760" y="814320"/>
            <a:ext cx="3225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cate which row (A,B,C) or column (1,2,3) you are running your robot on using the given arr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351080" y="4500720"/>
          <a:ext cx="7107120" cy="1298520"/>
        </p:xfrm>
        <a:graphic>
          <a:graphicData uri="http://schemas.openxmlformats.org/drawingml/2006/table">
            <a:tbl>
              <a:tblPr/>
              <a:tblGrid>
                <a:gridCol w="846000"/>
                <a:gridCol w="1136520"/>
                <a:gridCol w="5124600"/>
              </a:tblGrid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i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ects area o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112"/>
          <p:cNvSpPr/>
          <p:nvPr/>
        </p:nvSpPr>
        <p:spPr>
          <a:xfrm>
            <a:off x="3850200" y="758880"/>
            <a:ext cx="14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set: 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5"/>
          <p:cNvSpPr/>
          <p:nvPr/>
        </p:nvSpPr>
        <p:spPr>
          <a:xfrm>
            <a:off x="9678960" y="110808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1292760" y="6056280"/>
            <a:ext cx="362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ossible Characters: 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5304960" y="6099120"/>
            <a:ext cx="33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Eliminated Characters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5"/>
          <p:cNvSpPr/>
          <p:nvPr/>
        </p:nvSpPr>
        <p:spPr>
          <a:xfrm>
            <a:off x="3927600" y="1106640"/>
            <a:ext cx="5594400" cy="27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Robolab Investigator Upload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Screen (PrtSc) on your key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 (Ctrl + V) your graph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Cropping tool to crop your graph to fit inside this 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0" y="139680"/>
            <a:ext cx="9906120" cy="459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 of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5"/>
          <p:cNvSpPr/>
          <p:nvPr/>
        </p:nvSpPr>
        <p:spPr>
          <a:xfrm>
            <a:off x="3716280" y="118440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7"/>
          <p:cNvSpPr/>
          <p:nvPr/>
        </p:nvSpPr>
        <p:spPr>
          <a:xfrm>
            <a:off x="1328760" y="4198320"/>
            <a:ext cx="45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the robot moves across row/ column* ____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120680" y="1903320"/>
            <a:ext cx="1903680" cy="16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1120680" y="2475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1135080" y="3000240"/>
            <a:ext cx="19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1736640" y="1903320"/>
            <a:ext cx="12960" cy="169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 flipH="1">
            <a:off x="2395440" y="1917720"/>
            <a:ext cx="12960" cy="16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739800" y="2057400"/>
            <a:ext cx="352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714240" y="2590920"/>
            <a:ext cx="351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684360" y="3152880"/>
            <a:ext cx="3524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20960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1841400" y="1539720"/>
            <a:ext cx="351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249696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 flipH="1">
            <a:off x="634680" y="1933560"/>
            <a:ext cx="2052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 flipV="1">
            <a:off x="1090440" y="1521000"/>
            <a:ext cx="19623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293760" y="814320"/>
            <a:ext cx="3225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cate which row (A,B,C) or column (1,2,3) you are running your robot on using the given arr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351080" y="4500720"/>
          <a:ext cx="7107120" cy="1298520"/>
        </p:xfrm>
        <a:graphic>
          <a:graphicData uri="http://schemas.openxmlformats.org/drawingml/2006/table">
            <a:tbl>
              <a:tblPr/>
              <a:tblGrid>
                <a:gridCol w="846000"/>
                <a:gridCol w="1136520"/>
                <a:gridCol w="5124600"/>
              </a:tblGrid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i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ects area o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112"/>
          <p:cNvSpPr/>
          <p:nvPr/>
        </p:nvSpPr>
        <p:spPr>
          <a:xfrm>
            <a:off x="3850200" y="758880"/>
            <a:ext cx="14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set: 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5"/>
          <p:cNvSpPr/>
          <p:nvPr/>
        </p:nvSpPr>
        <p:spPr>
          <a:xfrm>
            <a:off x="9678960" y="110808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1"/>
          <p:cNvSpPr/>
          <p:nvPr/>
        </p:nvSpPr>
        <p:spPr>
          <a:xfrm>
            <a:off x="1292760" y="6056280"/>
            <a:ext cx="362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ossible Characters: 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5304960" y="6099120"/>
            <a:ext cx="33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Eliminated Characters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5"/>
          <p:cNvSpPr/>
          <p:nvPr/>
        </p:nvSpPr>
        <p:spPr>
          <a:xfrm>
            <a:off x="3927600" y="1106640"/>
            <a:ext cx="5594400" cy="27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Robolab Investigator Upload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Screen (PrtSc) on your key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 (Ctrl + V) your graph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Cropping tool to crop your graph to fit inside this 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0" y="139680"/>
            <a:ext cx="9906120" cy="459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 of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3716280" y="118440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1328760" y="4198320"/>
            <a:ext cx="45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the robot moves across row/ column* ____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120680" y="1903320"/>
            <a:ext cx="1903680" cy="16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1120680" y="2475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1135080" y="3000240"/>
            <a:ext cx="19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1736640" y="1903320"/>
            <a:ext cx="12960" cy="169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>
            <a:off x="2395440" y="1917720"/>
            <a:ext cx="12960" cy="16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739800" y="2057400"/>
            <a:ext cx="352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14240" y="2590920"/>
            <a:ext cx="351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84360" y="3152880"/>
            <a:ext cx="3524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20960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1841400" y="1539720"/>
            <a:ext cx="351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249696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8"/>
          <p:cNvSpPr/>
          <p:nvPr/>
        </p:nvSpPr>
        <p:spPr>
          <a:xfrm flipH="1">
            <a:off x="634680" y="1933560"/>
            <a:ext cx="2052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9"/>
          <p:cNvSpPr/>
          <p:nvPr/>
        </p:nvSpPr>
        <p:spPr>
          <a:xfrm flipV="1">
            <a:off x="1090440" y="1521000"/>
            <a:ext cx="19623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293760" y="814320"/>
            <a:ext cx="3225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cate which row (A,B,C) or column (1,2,3) you are running your robot on using the given arr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351080" y="4500720"/>
          <a:ext cx="7107120" cy="1298520"/>
        </p:xfrm>
        <a:graphic>
          <a:graphicData uri="http://schemas.openxmlformats.org/drawingml/2006/table">
            <a:tbl>
              <a:tblPr/>
              <a:tblGrid>
                <a:gridCol w="846000"/>
                <a:gridCol w="1136520"/>
                <a:gridCol w="5124600"/>
              </a:tblGrid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i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ects area o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Rectangle 112"/>
          <p:cNvSpPr/>
          <p:nvPr/>
        </p:nvSpPr>
        <p:spPr>
          <a:xfrm>
            <a:off x="3850200" y="758880"/>
            <a:ext cx="14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set: 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5"/>
          <p:cNvSpPr/>
          <p:nvPr/>
        </p:nvSpPr>
        <p:spPr>
          <a:xfrm>
            <a:off x="9678960" y="110808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1292760" y="6056280"/>
            <a:ext cx="362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ossible Characters: 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5304960" y="6099120"/>
            <a:ext cx="33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Eliminated Characters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5"/>
          <p:cNvSpPr/>
          <p:nvPr/>
        </p:nvSpPr>
        <p:spPr>
          <a:xfrm>
            <a:off x="3927600" y="1106640"/>
            <a:ext cx="5594400" cy="27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Robolab Investigator Upload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Screen (PrtSc) on your key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 (Ctrl + V) your graph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Cropping tool to crop your graph to fit inside this 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0" y="139680"/>
            <a:ext cx="9906120" cy="459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 of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"/>
          <p:cNvSpPr/>
          <p:nvPr/>
        </p:nvSpPr>
        <p:spPr>
          <a:xfrm>
            <a:off x="3716280" y="118440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7"/>
          <p:cNvSpPr/>
          <p:nvPr/>
        </p:nvSpPr>
        <p:spPr>
          <a:xfrm>
            <a:off x="1328760" y="4198320"/>
            <a:ext cx="45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the robot moves across row/ column* ____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120680" y="1903320"/>
            <a:ext cx="1903680" cy="16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1120680" y="2475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1135080" y="3000240"/>
            <a:ext cx="19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1736640" y="1903320"/>
            <a:ext cx="12960" cy="169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7"/>
          <p:cNvSpPr/>
          <p:nvPr/>
        </p:nvSpPr>
        <p:spPr>
          <a:xfrm flipH="1">
            <a:off x="2395440" y="1917720"/>
            <a:ext cx="12960" cy="16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739800" y="2057400"/>
            <a:ext cx="352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14240" y="2590920"/>
            <a:ext cx="351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684360" y="3152880"/>
            <a:ext cx="3524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120960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1841400" y="1539720"/>
            <a:ext cx="351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2496960" y="1539720"/>
            <a:ext cx="354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 flipH="1">
            <a:off x="634680" y="1933560"/>
            <a:ext cx="2052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 flipV="1">
            <a:off x="1090440" y="1521000"/>
            <a:ext cx="19623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8"/>
          <p:cNvSpPr/>
          <p:nvPr/>
        </p:nvSpPr>
        <p:spPr>
          <a:xfrm>
            <a:off x="293760" y="814320"/>
            <a:ext cx="3225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cate which row (A,B,C) or column (1,2,3) you are running your robot on using the given arr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351080" y="4500720"/>
          <a:ext cx="7107120" cy="1298520"/>
        </p:xfrm>
        <a:graphic>
          <a:graphicData uri="http://schemas.openxmlformats.org/drawingml/2006/table">
            <a:tbl>
              <a:tblPr/>
              <a:tblGrid>
                <a:gridCol w="846000"/>
                <a:gridCol w="1136520"/>
                <a:gridCol w="5124600"/>
              </a:tblGrid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i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ects area o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Rectangle 112"/>
          <p:cNvSpPr/>
          <p:nvPr/>
        </p:nvSpPr>
        <p:spPr>
          <a:xfrm>
            <a:off x="3850200" y="758880"/>
            <a:ext cx="14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set: 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5"/>
          <p:cNvSpPr/>
          <p:nvPr/>
        </p:nvSpPr>
        <p:spPr>
          <a:xfrm>
            <a:off x="9678960" y="1108080"/>
            <a:ext cx="17640" cy="2739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1292760" y="6056280"/>
            <a:ext cx="362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ossible Characters: 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5304960" y="6099120"/>
            <a:ext cx="33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Eliminated Characters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6:04:59Z</dcterms:created>
  <dc:creator>Ric</dc:creator>
  <dc:description/>
  <dc:language>en-US</dc:language>
  <cp:lastModifiedBy>juying primary school</cp:lastModifiedBy>
  <dcterms:modified xsi:type="dcterms:W3CDTF">2010-07-29T01:11:56Z</dcterms:modified>
  <cp:revision>47</cp:revision>
  <dc:subject/>
  <dc:title>Slide 1</dc:title>
</cp:coreProperties>
</file>